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10.jpeg" ContentType="image/jpeg"/>
  <Override PartName="/ppt/media/image9.wmf" ContentType="image/x-wmf"/>
  <Override PartName="/ppt/media/image1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5A552BD0-B2AD-416B-9D72-8786A1F1CD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6    T.Tammet     IT sissejuhatus loeng 15      lk     </a:t>
            </a:r>
            <a:r>
              <a:rPr b="1" lang="en-GB" sz="1400" spc="-1" strike="noStrike">
                <a:solidFill>
                  <a:srgbClr val="6666ff"/>
                </a:solidFill>
                <a:latin typeface="Bitstream Vera Sans"/>
              </a:rPr>
              <a:t>- </a:t>
            </a:r>
            <a:fld id="{ADAD9364-6A3D-4B24-A778-FC5591BFA170}"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4ECF1-49EF-4F37-96C2-3416BB5A87ED}"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440" y="2285640"/>
            <a:ext cx="7767720" cy="114156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fury.com/aoliza/" TargetMode="External"/><Relationship Id="rId2" Type="http://schemas.openxmlformats.org/officeDocument/2006/relationships/hyperlink" Target="http://www.alicebot.org/" TargetMode="External"/><Relationship Id="rId3" Type="http://schemas.openxmlformats.org/officeDocument/2006/relationships/hyperlink" Target="http://www.leeds.ac.uk/acom/alife/" TargetMode="External"/><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9" name="PlaceHolder 2"/>
          <p:cNvSpPr>
            <a:spLocks noGrp="1"/>
          </p:cNvSpPr>
          <p:nvPr>
            <p:ph/>
          </p:nvPr>
        </p:nvSpPr>
        <p:spPr>
          <a:xfrm>
            <a:off x="838080" y="761760"/>
            <a:ext cx="7848720" cy="5468760"/>
          </a:xfrm>
          <a:prstGeom prst="rect">
            <a:avLst/>
          </a:prstGeom>
          <a:noFill/>
          <a:ln w="0">
            <a:noFill/>
          </a:ln>
        </p:spPr>
        <p:txBody>
          <a:bodyPr lIns="92160" rIns="92160" tIns="46080" bIns="46080" anchor="t">
            <a:normAutofit/>
          </a:bodyPr>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Bitstream Vera Sans"/>
              </a:rPr>
              <a:t>Sissejuhatus </a:t>
            </a:r>
            <a:endParaRPr b="1" lang="en-US" sz="3200" spc="-1" strike="noStrike">
              <a:solidFill>
                <a:srgbClr val="000000"/>
              </a:solidFill>
              <a:latin typeface="Bitstream Vera Sans"/>
            </a:endParaRPr>
          </a:p>
          <a:p>
            <a:pPr marL="338040" indent="0" algn="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Bitstream Vera Sans"/>
              </a:rPr>
              <a:t>infotehnoloogiasse</a:t>
            </a: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200" spc="-1" strike="noStrike">
              <a:solidFill>
                <a:srgbClr val="000000"/>
              </a:solidFill>
              <a:latin typeface="Bitstream Vera Sans"/>
            </a:endParaRPr>
          </a:p>
          <a:p>
            <a:pPr marL="338040" indent="0">
              <a:lnSpc>
                <a:spcPct val="97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200" spc="-1" strike="noStrike">
              <a:solidFill>
                <a:srgbClr val="000000"/>
              </a:solidFill>
              <a:latin typeface="Bitstream Vera Sans"/>
            </a:endParaRPr>
          </a:p>
        </p:txBody>
      </p:sp>
      <p:grpSp>
        <p:nvGrpSpPr>
          <p:cNvPr id="90" name=""/>
          <p:cNvGrpSpPr/>
          <p:nvPr/>
        </p:nvGrpSpPr>
        <p:grpSpPr>
          <a:xfrm>
            <a:off x="914400" y="299520"/>
            <a:ext cx="7772400" cy="311400"/>
            <a:chOff x="914400" y="299520"/>
            <a:chExt cx="7772400" cy="311400"/>
          </a:xfrm>
        </p:grpSpPr>
        <p:sp>
          <p:nvSpPr>
            <p:cNvPr id="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Vestlev pseudointellekt: Eliza</a:t>
            </a:r>
            <a:br>
              <a:rPr sz="1600"/>
            </a:b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762120"/>
            <a:ext cx="7848720" cy="637992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 1966 </a:t>
            </a:r>
            <a:r>
              <a:rPr b="1" lang="en-GB" sz="1800" spc="-1" strike="noStrike">
                <a:solidFill>
                  <a:srgbClr val="000000"/>
                </a:solidFill>
                <a:latin typeface="Bitstream Vera Sans"/>
              </a:rPr>
              <a:t>Joseph Weizenbaum </a:t>
            </a:r>
            <a:r>
              <a:rPr b="0" lang="en-GB" sz="1800" spc="-1" strike="noStrike">
                <a:solidFill>
                  <a:srgbClr val="000000"/>
                </a:solidFill>
                <a:latin typeface="Bitstream Vera Sans"/>
              </a:rPr>
              <a:t>at M.I.T. wrote</a:t>
            </a:r>
            <a:r>
              <a:rPr b="1" lang="en-GB" sz="1800" spc="-1" strike="noStrike">
                <a:solidFill>
                  <a:srgbClr val="000000"/>
                </a:solidFill>
                <a:latin typeface="Bitstream Vera Sans"/>
              </a:rPr>
              <a:t> ELIZA</a:t>
            </a:r>
            <a:r>
              <a:rPr b="0" lang="en-GB" sz="1800" spc="-1" strike="noStrike">
                <a:solidFill>
                  <a:srgbClr val="000000"/>
                </a:solidFill>
                <a:latin typeface="Bitstream Vera Sans"/>
              </a:rPr>
              <a:t>, a famous program that simulates a Rogerian psychoanalyst by taking excerpts from the subject's comments and posing questions back to the subject.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liza on lihtne programm, mille sees on suur hulk “standardlauseid” ja “standardsõnu”. Kui Elizale anda lause, milles on sõna tema “standardsõnade” loetelus, siis Eliza valib mõne “standardvastuse” ja paneb sinna sisse osi talle antud tekstist.</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ääb mulje, et Eliza haakub vestlejaga. Eliza poolt antud laused on samuti harilikud inimkeelsed laused (sest need on programmeerija talle andmebaasi pannud”.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ata näite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1"/>
              </a:rPr>
              <a:t>http://fury.com/aoliz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2"/>
              </a:rPr>
              <a:t>http://www.alicebot.org/</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3"/>
              </a:rPr>
              <a:t>http://www.leeds.ac.uk/acom/alif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5" name=""/>
          <p:cNvGrpSpPr/>
          <p:nvPr/>
        </p:nvGrpSpPr>
        <p:grpSpPr>
          <a:xfrm>
            <a:off x="914400" y="299520"/>
            <a:ext cx="7772400" cy="311400"/>
            <a:chOff x="914400" y="299520"/>
            <a:chExt cx="7772400" cy="311400"/>
          </a:xfrm>
        </p:grpSpPr>
        <p:sp>
          <p:nvSpPr>
            <p:cNvPr id="1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liza: seletustega näitevestlus</a:t>
            </a:r>
            <a:br>
              <a:rPr sz="1600"/>
            </a:b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762120"/>
            <a:ext cx="7848720" cy="5935680"/>
          </a:xfrm>
          <a:prstGeom prst="rect">
            <a:avLst/>
          </a:prstGeom>
          <a:noFill/>
          <a:ln w="0">
            <a:noFill/>
          </a:ln>
        </p:spPr>
        <p:txBody>
          <a:bodyPr lIns="92160" rIns="92160" tIns="46080" bIns="46080" anchor="t">
            <a:normAutofit/>
          </a:bodyPr>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HELLO, I'M ELIZABETH. WHAT WOULD YOU LIKE TO TALK ABOUT?</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the Welcome messag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mum is having a hard tim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TELL ME MORE ABOUT YOUR FAMILY</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5 changes 'mum' into 'mother', and this is matched at line 26; hence one of lines 28, 29, and 30 is randomly selected)</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There's just her, dad and my brother</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WHAT DO YOU REMEMBER MOST ABOUT YOUR CHILDHOOD?</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6 changes 'dad' into 'father', and this is matched at line 27; hence either line 29 or 30 is randomly selected for display – line 28 is ruled out because it was the last response to be selected from this group)</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father and brother were always quarrelling.</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ARE YOU THE YOUNGEST IN YOUR FAMILY?</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ather' is matched at line 27; hence either line 28 or 29 is randomly selected for display – line 30 is ruled out because it was the last response to be selected from this group)</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brother is younger than m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SO YOU ARE OLDER THAN YOUR BROTHER.</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31 matches, so line 32 then generates the response 'SO me IS OLDER THAN my brother'.  Output substitutions then transform this in turn to 'SO YOU IS OLDER THAN my brother' (line 10), 'SO YOU IS OLDER THAN YOUR brother' (line 13), and finally 'SO YOU ARE OLDER THAN YOUR brother' (line 18).</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60" name=""/>
          <p:cNvGrpSpPr/>
          <p:nvPr/>
        </p:nvGrpSpPr>
        <p:grpSpPr>
          <a:xfrm>
            <a:off x="914400" y="299520"/>
            <a:ext cx="7772400" cy="311400"/>
            <a:chOff x="914400" y="299520"/>
            <a:chExt cx="7772400" cy="31140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ja praktika Turingi testi ümber</a:t>
            </a:r>
            <a:br>
              <a:rPr sz="1600"/>
            </a:br>
            <a:endParaRPr b="1" lang="en-US" sz="2400" spc="-1" strike="noStrike">
              <a:solidFill>
                <a:srgbClr val="000099"/>
              </a:solidFill>
              <a:latin typeface="Bitstream Vera Sans"/>
            </a:endParaRPr>
          </a:p>
        </p:txBody>
      </p:sp>
      <p:sp>
        <p:nvSpPr>
          <p:cNvPr id="1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ult Turingi testi edukalt tegev programm pea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Teadma igapäevaelust sama palju, kui keskmine inimene</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Oskama lahendada ülesandeid</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Saama aru vestluspartneri soovidest ja teadmistest jne</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 kõik on VÄGA KEERULINE ja ei ole põhjust arvata, et lihtsakoeline programm sellega kuidagi hakkama saab.</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programm sellega hakkama saab, siis on ta pööraselt keeruline ja võimas, ja inimesed üldiselt ei saa enam aru, mis ta sees on ja kuidas ta töötab, ja pigem võib arvata, et ta on siis ka päriselt intelligentne.</a:t>
            </a:r>
            <a:endParaRPr b="1" lang="en-US" sz="1800" spc="-1" strike="noStrike">
              <a:solidFill>
                <a:srgbClr val="000000"/>
              </a:solidFill>
              <a:latin typeface="Bitstream Vera Sans"/>
            </a:endParaRPr>
          </a:p>
        </p:txBody>
      </p:sp>
      <p:grpSp>
        <p:nvGrpSpPr>
          <p:cNvPr id="165" name=""/>
          <p:cNvGrpSpPr/>
          <p:nvPr/>
        </p:nvGrpSpPr>
        <p:grpSpPr>
          <a:xfrm>
            <a:off x="914400" y="299520"/>
            <a:ext cx="7772400" cy="311400"/>
            <a:chOff x="914400" y="299520"/>
            <a:chExt cx="7772400" cy="31140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Argumente masinmõistuse võimalikkuseks</a:t>
            </a:r>
            <a:br>
              <a:rPr sz="1600"/>
            </a:br>
            <a:endParaRPr b="1" lang="en-US" sz="2400" spc="-1" strike="noStrike">
              <a:solidFill>
                <a:srgbClr val="000099"/>
              </a:solidFill>
              <a:latin typeface="Bitstream Vera Sans"/>
            </a:endParaRPr>
          </a:p>
        </p:txBody>
      </p:sp>
      <p:sp>
        <p:nvSpPr>
          <p:cNvPr id="169" name="PlaceHolder 2"/>
          <p:cNvSpPr>
            <a:spLocks noGrp="1"/>
          </p:cNvSpPr>
          <p:nvPr>
            <p:ph/>
          </p:nvPr>
        </p:nvSpPr>
        <p:spPr>
          <a:xfrm>
            <a:off x="838080" y="761760"/>
            <a:ext cx="7848720" cy="62658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protsessorit mikroskoobiga vaadates on näha ränist juhtmerägastikku, mitte mõistust. Aju mikroskoobiga vaadates on näha valkudest neuronite rägastikku, mitte mõistu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inimene suudab teha midagi endast palju võimsamat? Aga, kas ainurakne suudab teha hulkrakset? Kõrgemat loo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mõistuslik programm on teoreetiliselt võimalik, siis võib ta luua ka juhuse läbi, saamata täpselt aru, miks ja kuida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eligioosne problemaatika: kanoonilised tekstid ei ütle, et mingit uut mõistuslikku eluvormi ei saa luua. Kui oletada, et seda saab teha ainult kõrgem olend, siis võib tal olla seda mugav teha inimeste kaudu.</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i ole mingit põhjust arvata, et inimene poleks masin. Kui oletada, et inimene kasutab ekstrasensiitvseid võimeid ja teda juhib kõrgem olend, siis miks ei võiks ka ränist masin kasutada ekstrasensitiivseid võimeid ja miks ei võiks teda samuti juhtida kõrgem olen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0" name=""/>
          <p:cNvGrpSpPr/>
          <p:nvPr/>
        </p:nvGrpSpPr>
        <p:grpSpPr>
          <a:xfrm>
            <a:off x="914400" y="299520"/>
            <a:ext cx="7772400" cy="311400"/>
            <a:chOff x="914400" y="299520"/>
            <a:chExt cx="7772400" cy="31140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eadvuse küsimused</a:t>
            </a:r>
            <a:br>
              <a:rPr sz="1600"/>
            </a:br>
            <a:endParaRPr b="1" lang="en-US" sz="2400" spc="-1" strike="noStrike">
              <a:solidFill>
                <a:srgbClr val="000099"/>
              </a:solidFill>
              <a:latin typeface="Bitstream Vera Sans"/>
            </a:endParaRPr>
          </a:p>
        </p:txBody>
      </p:sp>
      <p:sp>
        <p:nvSpPr>
          <p:cNvPr id="174" name="PlaceHolder 2"/>
          <p:cNvSpPr>
            <a:spLocks noGrp="1"/>
          </p:cNvSpPr>
          <p:nvPr>
            <p:ph/>
          </p:nvPr>
        </p:nvSpPr>
        <p:spPr>
          <a:xfrm>
            <a:off x="838080" y="762120"/>
            <a:ext cx="7848720" cy="629424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advus on väga pinnaline. Inimene ei ole teadlik rõhuvast enamusest oma ajutegevusest, mõtlemise printsiipidest jne jne. Isegi maletaja ei oska adekvaatselt selgitada, miks on üks käik parem ja kuidas ta käike valib.</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advus on tihedalt seotud mälu ehitusega.</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madel ja vastsündinutel ei ole teadvust inimese mõttes.</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n olemas lõhestunud isikuga inimesi, kellel on mitu sõltumatut teadvust.</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õistust võib ehk vaadata kui riiki, kus sees palju mehhanisme ja tegutsejaid, ning mille presidendiks ehk esindajaks on teadvus, mida võib vajadusel vahetada (a la lõhestunud isikuga inimese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5" name=""/>
          <p:cNvGrpSpPr/>
          <p:nvPr/>
        </p:nvGrpSpPr>
        <p:grpSpPr>
          <a:xfrm>
            <a:off x="914400" y="299520"/>
            <a:ext cx="7772400" cy="311400"/>
            <a:chOff x="914400" y="299520"/>
            <a:chExt cx="7772400" cy="311400"/>
          </a:xfrm>
        </p:grpSpPr>
        <p:sp>
          <p:nvSpPr>
            <p:cNvPr id="1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Paradoks: inimlikkus on loomalikkus.</a:t>
            </a:r>
            <a:br>
              <a:rPr sz="1600"/>
            </a:b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1760"/>
            <a:ext cx="7848720" cy="60814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d hindavad “inimlike” omadustena (emotsioonid, tajud, suhtlemine jne) omadusi, mis on samamoodi olemas kõrgematel loomadel (koerad, delfiinid, ahvid, lõvid, elevandid j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tsionaalset mõtlemist (keerukate reeglite õppimist ja nendest keerukate järelduste tegemist, ettekalkuleerimist) peavad inimesed “külmaks”, “ebainimlikuks” jm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owni tõbe põdev nõrgamõistuslik on palju “inimlikum” kui jõhker börsihai või fanaatiline matemaatik.</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ga: “inimlikkus” tavatähenduses on “loomalikkus”. See, mis eraldab inimest teistest loomadest, on esmajoones ratsionaalne mõtlemine, mida inimesed ei pea “inimliku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õtlemine on inimese jaoks võõras ja raske ja ebaloomulik tegevus, ning inimene on kehv mõtleja: enamik tema ajust on analoogiline teiste loomadega ja spetsialiseerunud “inimlike” st. “loomalike” oskuste jao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
          <p:cNvGrpSpPr/>
          <p:nvPr/>
        </p:nvGrpSpPr>
        <p:grpSpPr>
          <a:xfrm>
            <a:off x="914400" y="299520"/>
            <a:ext cx="7772400" cy="311400"/>
            <a:chOff x="914400" y="299520"/>
            <a:chExt cx="7772400" cy="31140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Äärmused: putukad ja CYC</a:t>
            </a:r>
            <a:br>
              <a:rPr sz="1600"/>
            </a:b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2120"/>
            <a:ext cx="7848720" cy="67341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utukad</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odney Brooks’i projekt MIT-s: teha putuka analoogideks olevaid roboteid.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dee: kui oskame teha putuka intellektiga masinat, siis proovime sealt edasi liikuda väikese looma intellektiga masinani, sealt kõrgema loomani, sealt inimeseni ja edasi.</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tus: sel viisil ehitame mõistuse mehhanismid analoogiliselt nende tekkele looduse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ttp://www.ai.mit.edu/people/brooks/projects.shtml</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CYC</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oug Lenati projekt CYC: teeme hiiglasliku andmebaasi faktidest ja reeglitest ja lihtsa järelduste tegemise  programmi sinna peal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dee: programm hakkab tekstidest aru saama, uusi reegleid ja fakte õppima, seejärel ka iseennast täiustam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tus: kvantiteet tekitab teatud piiri ületamisel kvalitatiivse hüpp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ttp://www.cyc.com/</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
          <p:cNvGrpSpPr/>
          <p:nvPr/>
        </p:nvGrpSpPr>
        <p:grpSpPr>
          <a:xfrm>
            <a:off x="914400" y="299520"/>
            <a:ext cx="7772400" cy="311400"/>
            <a:chOff x="914400" y="299520"/>
            <a:chExt cx="7772400" cy="31140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8" name="" descr=""/>
          <p:cNvPicPr/>
          <p:nvPr/>
        </p:nvPicPr>
        <p:blipFill>
          <a:blip r:embed="rId1"/>
          <a:stretch/>
        </p:blipFill>
        <p:spPr>
          <a:xfrm>
            <a:off x="7429680" y="0"/>
            <a:ext cx="1714320" cy="1222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Hard AI: järelduste tegemine</a:t>
            </a:r>
            <a:br>
              <a:rPr sz="1600"/>
            </a:b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2120"/>
            <a:ext cx="7848720" cy="63705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eamine põhimõte:</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Loogikakeel on universaalne: selles saab esitada matemaatikat, igapäevaelu jms.</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Salvestame faktid ja reeglid sobivas loogikakeeles.</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Ehitame järelduste tegemise programmi, mis suudaks kiirelt kontrollida, kas meid huvitav järeldus antud faktidest ja reeglitest tegelikult tuleneb.</a:t>
            </a: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Eesmärk:</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utomatiseerida keeruliste järelduste tegemist nõudvaid ülesandeid.</a:t>
            </a:r>
            <a:endParaRPr b="0" lang="en-US" sz="16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ulemusi ja praktika:</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Järelduste tegemise programmid on abiks spetsiifilistes valdkondades, kus etteantud reeglite arv ei ole väga suur (teatud matemaatika osad, elektroonikaseadmete ja raudteesignalisatsiooni õigsuse kontroll jne).</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Järelduste tegemise programmid jäävad tüüpiliselt ajahätta, kui reegleid on väga palju: raske on otsustada, mis reegleid mis järjekorras läbi proovida.</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Valdkonna nimetus: automated reasoning, automated theorem proving</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ihedalt seotud valdkond: ekspertsüsteem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
          <p:cNvGrpSpPr/>
          <p:nvPr/>
        </p:nvGrpSpPr>
        <p:grpSpPr>
          <a:xfrm>
            <a:off x="914400" y="299520"/>
            <a:ext cx="7772400" cy="311400"/>
            <a:chOff x="914400" y="299520"/>
            <a:chExt cx="7772400" cy="311400"/>
          </a:xfrm>
        </p:grpSpPr>
        <p:sp>
          <p:nvSpPr>
            <p:cNvPr id="1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ks on järelduste tegemine “hard AI”?</a:t>
            </a:r>
            <a:br>
              <a:rPr sz="1600"/>
            </a:b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llised süsteemid </a:t>
            </a:r>
            <a:r>
              <a:rPr b="1" lang="en-GB" sz="1800" spc="-1" strike="noStrike">
                <a:solidFill>
                  <a:srgbClr val="000000"/>
                </a:solidFill>
                <a:latin typeface="Bitstream Vera Sans"/>
              </a:rPr>
              <a:t>oskavad teadmisi KASUTADA</a:t>
            </a:r>
            <a:r>
              <a:rPr b="0" lang="en-GB" sz="1800" spc="-1" strike="noStrike">
                <a:solidFill>
                  <a:srgbClr val="000000"/>
                </a:solidFill>
                <a:latin typeface="Bitstream Vera Sans"/>
              </a:rPr>
              <a:t>, st saavad asjadest TEGELIKULT aru.</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llised süsteemid </a:t>
            </a:r>
            <a:r>
              <a:rPr b="1" lang="en-GB" sz="1800" spc="-1" strike="noStrike">
                <a:solidFill>
                  <a:srgbClr val="000000"/>
                </a:solidFill>
                <a:latin typeface="Bitstream Vera Sans"/>
              </a:rPr>
              <a:t>tuleb tulevikus panna IGA intelligentse süsteemi sisse</a:t>
            </a:r>
            <a:r>
              <a:rPr b="0" lang="en-GB" sz="1800" spc="-1" strike="noStrike">
                <a:solidFill>
                  <a:srgbClr val="000000"/>
                </a:solidFill>
                <a:latin typeface="Bitstream Vera Sans"/>
              </a:rPr>
              <a:t> (masintõlge, kujutiste äratundmine, robotid jne), sest siis on too süsteem võimeline asjadest tegelikult aru saa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esandepüstitus uurijatele on konkreetne</a:t>
            </a:r>
            <a:r>
              <a:rPr b="0" lang="en-GB" sz="1800" spc="-1" strike="noStrike">
                <a:solidFill>
                  <a:srgbClr val="000000"/>
                </a:solidFill>
                <a:latin typeface="Bitstream Vera Sans"/>
              </a:rPr>
              <a:t>: siin on faktid, reeglid ja küsimus, kas sinu programm vastab N sekundi jooksul küsimusele õigesti või ei?</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sintõlkes näiteks nii pole: ei ole täpset kriteeriumit hindamaks, mis tõlge on parem kui teine ja milline on selgelt viga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9520"/>
            <a:ext cx="7772400" cy="311400"/>
            <a:chOff x="914400" y="299520"/>
            <a:chExt cx="7772400" cy="311400"/>
          </a:xfrm>
        </p:grpSpPr>
        <p:sp>
          <p:nvSpPr>
            <p:cNvPr id="1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amine loogikatõestuse abil</a:t>
            </a:r>
            <a:br>
              <a:rPr sz="1600"/>
            </a:b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1760"/>
            <a:ext cx="7848720" cy="60116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Ülesanne tuleb loogika keeles formuleerid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üsimus tuleb ka loogika keeles formuleerid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õestaja asub tõestust otsi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anda lõpmatult palju aega ja mälu, siis tõestaja lõpuks ka tõestuse leiab (kui tõestus üldse teoreetiliselt eksisteerib). Keeruliste ülesannete puhul võtaks see lootusetult kaua aega (meenuta keerukusklass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tõestust ei ole, siis tõestaja enamasti jääbki seda otsima, teadma, et sellist tõestust ei saa oll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õestajate igaastased võistlused CASC:</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www.math.miami.edu/~tptp/CASC/</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Gandalf:</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ammeti tõestaja, pea iga aasta võitnud mõne CASC kategoori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www.ttu.ee/it/gandalf/</a:t>
            </a:r>
            <a:endParaRPr b="0" lang="en-US" sz="1800" spc="-1" strike="noStrike">
              <a:solidFill>
                <a:srgbClr val="000000"/>
              </a:solidFill>
              <a:latin typeface="Bitstream Vera Sans"/>
            </a:endParaRPr>
          </a:p>
        </p:txBody>
      </p:sp>
      <p:grpSp>
        <p:nvGrpSpPr>
          <p:cNvPr id="201" name=""/>
          <p:cNvGrpSpPr/>
          <p:nvPr/>
        </p:nvGrpSpPr>
        <p:grpSpPr>
          <a:xfrm>
            <a:off x="914400" y="299520"/>
            <a:ext cx="7772400" cy="311400"/>
            <a:chOff x="914400" y="299520"/>
            <a:chExt cx="7772400" cy="31140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990360"/>
            <a:ext cx="7848720" cy="6342120"/>
          </a:xfrm>
          <a:prstGeom prst="rect">
            <a:avLst/>
          </a:prstGeom>
          <a:noFill/>
          <a:ln w="0">
            <a:noFill/>
          </a:ln>
        </p:spPr>
        <p:txBody>
          <a:bodyPr lIns="92160" rIns="92160" tIns="46080" bIns="46080" anchor="t">
            <a:normAutofit/>
          </a:bodyPr>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aust ja põhimõtte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llega tehisintellekti-uurijad tegeleva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ilosoofia ja Turingi test</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seudointellekt ja Eliza</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ks äärmust: kunstlikud putukad ja paljuteadev CYC</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Hard” AI (fookus järelduste tegemise oskusel ja reeglite õppimisel)</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oreemitõestamine ja järelduste tege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rame problem jms raskuse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kspertsüsteemid: spetsiifilise järelduste tegemise strateegia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ntelligentsed agendid: järeldused, õppimine jms</a:t>
            </a:r>
            <a:endParaRPr b="0"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Soft” AI: (fookus tajumisel ja tajupiltide õppimisel)</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Õppi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ksti mõist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ildi mõistmine ja kõne mõistmine</a:t>
            </a:r>
            <a:endParaRPr b="0"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obootika</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akenduslikud algoritmid: piiri peal tehisintellektile</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ale, kabe, go, bridzh</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Üldised otsimismeetodi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QL optimeerimine, optimeerivad kompilaatorid, travelling salesman  jms</a:t>
            </a:r>
            <a:endParaRPr b="0" lang="en-US" sz="1600" spc="-1" strike="noStrike">
              <a:solidFill>
                <a:srgbClr val="000000"/>
              </a:solidFill>
              <a:latin typeface="Bitstream Vera Sans"/>
            </a:endParaRPr>
          </a:p>
          <a:p>
            <a:pPr lvl="1" marL="738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95" name=""/>
          <p:cNvGrpSpPr/>
          <p:nvPr/>
        </p:nvGrpSpPr>
        <p:grpSpPr>
          <a:xfrm>
            <a:off x="838080" y="376200"/>
            <a:ext cx="7770960" cy="311040"/>
            <a:chOff x="838080" y="376200"/>
            <a:chExt cx="7770960" cy="311040"/>
          </a:xfrm>
        </p:grpSpPr>
        <p:sp>
          <p:nvSpPr>
            <p:cNvPr id="9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Näiteid: Gandalf ja lihtne algebraülesanne</a:t>
            </a:r>
            <a:br>
              <a:rPr sz="1600"/>
            </a:b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2120"/>
            <a:ext cx="7848720" cy="6834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empoolne ühikelement poolrühmal(?) on ka vasakpoolne ühikele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y,z)),*(*(x,y),z)).</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e),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i(x)),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üsimus:</a:t>
            </a:r>
            <a:r>
              <a:rPr b="0" lang="en-GB" sz="1800" spc="-1" strike="noStrike">
                <a:solidFill>
                  <a:srgbClr val="000000"/>
                </a:solidFill>
                <a:latin typeface="Bitstream Vera Sans"/>
              </a:rPr>
              <a:t> kas kehtib  equal(*(e,c),c)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õestus vastuolu leidmise teel küsimus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29 [] equal(*(x,*(y,z)),*(*(x,y),z)).</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0 [] equal(*(x,e),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1 [] equal(*(x,i(x)),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2 [] -equal(*(e,c),c).</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8 [para,30.1.1.#t.(2 1),29] equal(*(x,*(e,y)),*(x,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9 [para,31.1.1.#t.(1 2),29,demod,30] equal(x,*(*(x,y),i(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97 [para,31.1.1.#t.(2 1),39] equal(x,*(e,i(i(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12 [para,97.1.1.#f.(2),38,demod,97,binary_s,32] </a:t>
            </a:r>
            <a:r>
              <a:rPr b="1" lang="en-GB" sz="1800" spc="-1" strike="noStrike">
                <a:solidFill>
                  <a:srgbClr val="000000"/>
                </a:solidFill>
                <a:latin typeface="Bitstream Vera Sans"/>
              </a:rPr>
              <a:t>contradictio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299520"/>
            <a:ext cx="7772400" cy="311400"/>
            <a:chOff x="914400" y="299520"/>
            <a:chExt cx="7772400" cy="31140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asinaga matemaatikaprobleem</a:t>
            </a:r>
            <a:br>
              <a:rPr sz="1600"/>
            </a:b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1760"/>
            <a:ext cx="7848720" cy="6715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 McCune 1996:</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he Robbins problem---are all Robbins algebras Boolean?- has been solved using his automated theorem prover EQP.</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rogramm otsis lahendust ca üks nädal, kuni lõpuks leidis.</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esanne oli matemaatikute poolt lahendamata, kuigi püstitati aastal 1933:</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il on antud Robbinsi algebr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 + y = y + x.                               [commutativ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 + y) + z = x + (y + z).              [associativ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n(x + y) + n(x + n(y))) = x.       [Robbins equatio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järgmised võrdused annava selle algebra jaoks vastuolu:</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y != 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x+y) != n(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1" name=""/>
          <p:cNvGrpSpPr/>
          <p:nvPr/>
        </p:nvGrpSpPr>
        <p:grpSpPr>
          <a:xfrm>
            <a:off x="914400" y="299520"/>
            <a:ext cx="7772400" cy="311400"/>
            <a:chOff x="914400" y="299520"/>
            <a:chExt cx="7772400" cy="311400"/>
          </a:xfrm>
        </p:grpSpPr>
        <p:sp>
          <p:nvSpPr>
            <p:cNvPr id="2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õestuse algus</a:t>
            </a:r>
            <a:br>
              <a:rPr sz="1600"/>
            </a:br>
            <a:endParaRPr b="1" lang="en-US" sz="2400" spc="-1" strike="noStrike">
              <a:solidFill>
                <a:srgbClr val="000099"/>
              </a:solidFill>
              <a:latin typeface="Bitstream Vera Sans"/>
            </a:endParaRPr>
          </a:p>
        </p:txBody>
      </p:sp>
      <p:sp>
        <p:nvSpPr>
          <p:cNvPr id="215"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a:bodyPr>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 [] x+y=y+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3 [] (x+y)+z=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 [] (x+y)+z=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5 [] n(n(n(x)+y)+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 [] n(x+y)!=n(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4 [para_into,4.1.1.1,2.1.1,demod,3] x+y+z=y+x+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1 [para_into,5.1.1.1.2.1,2.1.1] n(n(n(x)+y)+n(y+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3 [para_into,5.1.1.1,2.1.1] n(n(x+y)+n(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5 [para_into,6.1.1.1,2.1.1] n(x+y)!=n(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93 [para_into,71.1.1.1,2.1.1] n(n(x+y)+n(n(y)+x))=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6 [para_into,75.1.1.1,4.1.1] n(x+y+z)!=n(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0 [para_into,93.1.1.1.2,73.1.1] n(n(n(n(x)+y)+x+y)+y)=n(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2 [para_into,93.1.1.1.2,5.1.1] n(n(n(x+y)+n(x)+y)+y)=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9 [para_into,116.1.1.1.2,64.1.1] n(x+y+z+u)!=n(y+u).</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70 [para_from,130.1.1,73.1.1.1.2,demod,3,3] n(n(n(n(x)+y)+x+y+y)+n(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74 [para_from,130.1.1,5.1.1.1.1,demod,3,3] n(n(n(x)+y)+n(n(n(x)+y)+x+y+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90 [para_into,132.1.1.1.1.1.2,64.1.1] n(n(n(x+y+z)+y+n(x)+z)+y+z)=n(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11 [para_into,139.1.1.1,64.1.1] n(x+y+z+u)!=n(x+u).</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53 [para_from,170.1.1,93.1.1.1.2] n(n(n(n(x)+y)+n(n(x)+y)+x+y+y)+y)=n(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60 [para_from,170.1.1,73.1.1.1.2.1.1,demod,3] n(n(n(n(n(x)+y)+x+y+y)+n(n(x)+y)+z)+n(y+z))=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346 [para_into,190.1.1.1.2,2.1.1] n(n(n(x+y+z)+y+n(x)+z)+z+y)=n(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a:t>
            </a:r>
            <a:endParaRPr b="1" lang="en-US" sz="1400" spc="-1" strike="noStrike">
              <a:solidFill>
                <a:srgbClr val="000000"/>
              </a:solidFill>
              <a:latin typeface="Bitstream Vera Sans"/>
            </a:endParaRPr>
          </a:p>
        </p:txBody>
      </p:sp>
      <p:grpSp>
        <p:nvGrpSpPr>
          <p:cNvPr id="216" name=""/>
          <p:cNvGrpSpPr/>
          <p:nvPr/>
        </p:nvGrpSpPr>
        <p:grpSpPr>
          <a:xfrm>
            <a:off x="914400" y="299520"/>
            <a:ext cx="7772400" cy="311400"/>
            <a:chOff x="914400" y="299520"/>
            <a:chExt cx="7772400" cy="311400"/>
          </a:xfrm>
        </p:grpSpPr>
        <p:sp>
          <p:nvSpPr>
            <p:cNvPr id="2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õestus jätkub</a:t>
            </a:r>
            <a:endParaRPr b="1" lang="en-US" sz="2400" spc="-1" strike="noStrike">
              <a:solidFill>
                <a:srgbClr val="000099"/>
              </a:solidFill>
              <a:latin typeface="Bitstream Vera Sans"/>
            </a:endParaRPr>
          </a:p>
        </p:txBody>
      </p:sp>
      <p:sp>
        <p:nvSpPr>
          <p:cNvPr id="220" name="PlaceHolder 2"/>
          <p:cNvSpPr>
            <a:spLocks noGrp="1"/>
          </p:cNvSpPr>
          <p:nvPr>
            <p:ph/>
          </p:nvPr>
        </p:nvSpPr>
        <p:spPr>
          <a:xfrm>
            <a:off x="0" y="761760"/>
            <a:ext cx="9144000" cy="7070760"/>
          </a:xfrm>
          <a:prstGeom prst="rect">
            <a:avLst/>
          </a:prstGeom>
          <a:noFill/>
          <a:ln w="0">
            <a:noFill/>
          </a:ln>
        </p:spPr>
        <p:txBody>
          <a:bodyPr lIns="92160" rIns="92160" tIns="46080" bIns="46080" anchor="t">
            <a:normAutofit/>
          </a:bodyPr>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23 [para_from,253.1.1,5.1.1.1.1,demod,3,3,3,3] n(n(n(x)+y)+n(n(n(x)+y)+n(n(x)+y)+x+y+y+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75 [para_from,260.1.1,73.1.1.1.2,demod,3,3] n(n(n(n(n(x)+y)+x+y+y)+n(n(x)+y)+z+n(y+z))+z)=n(y+z).</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86 [para_into,346.1.1.1.1.1.1.1,2.1.1,demod,3] n(n(n(x+y+z)+x+n(z)+y)+y+x)=n(z+x+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84 [para_into,475.1.1.1.1.1.2.2,2.1.1] n(n(n(n(n(x)+y)+x+y+y)+n(n(x)+y)+n(y+z)+z)+z)=n(y+z).</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01 [para_from,684.1.1,73.1.1.1.2.1.1,demod,3] n(n(n(n(n(n(x)+y)+x+y+y)+n(n(x)+y)+n(y+z)+z)+z+u)+n(n(y+z)+u))=u.</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48 [para_into,801.1.1.1.1,486.1.1,demod,3] n(n(x+x+n(n(x)+x)+x)+n(n(x+x)+n(n(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78 [para_into,848.1.1.1.2,93.1.1] n(n(x+x+n(n(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97 [para_into,878.1.1.1.1.1.2,64.1.1] n(n(x+n(n(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948 [para_into,897.1.1.1.1.1,64.1.1] n(n(n(n(x)+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15 [para_from,948.1.1,73.1.1.1.2.1.1,demod,3] n(n(n(n(n(x)+x)+x+x+x)+x+y)+n(n(n(x)+x)+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36 [para_from,948.1.1,73.1.1.1.2,demod,3,3,3] n(n(n(n(x)+x)+x+x+x+x)+n(n(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53 [para_into,1015.1.1.1.2,423.1.1] n(n(n(n(n(x)+x)+x+x+x)+x+n(n(n(x)+x)+n(n(x)+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79 [para_from,1036.1.1,93.1.1.1.2] n(n(n(n(x)+x)+n(n(x)+x)+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12 [para_into,1053.1.1.1.1.1,2.1.1,demod,3] n(n(x+n(n(n(x)+x)+n(n(x)+x)+x+x+x+x)+n(n(n(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30 [para_from,1079.1.1,73.1.1.1.2.1.1,demod,3] n(n(n(n(n(x)+x)+n(n(x)+x)+x+x+x+x)+x+y)+n(n(n(x)+x)+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49 [para_into,1112.1.1.1.1.1,64.1.1] n(n(n(n(n(x)+x)+n(n(x)+x)+x+x+x+x)+x+n(n(n(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69 [para_into,1130.1.1.1.2,174.1.1] n(n(n(n(n(x)+x)+n(n(x)+x)+x+x+x+x)+x+n(n(n(x)+x)+x+x+x))+x)=n(n(n(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211 [para_into,1169.1.1,1149.1.1] n(n(n(x)+x)+n(n(x)+x)+x+x+x+x)=n(n(n(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212 [binary,1211.1,211.1] $F.</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221" name=""/>
          <p:cNvGrpSpPr/>
          <p:nvPr/>
        </p:nvGrpSpPr>
        <p:grpSpPr>
          <a:xfrm>
            <a:off x="914400" y="299520"/>
            <a:ext cx="7772400" cy="311400"/>
            <a:chOff x="914400" y="299520"/>
            <a:chExt cx="7772400" cy="311400"/>
          </a:xfrm>
        </p:grpSpPr>
        <p:sp>
          <p:nvSpPr>
            <p:cNvPr id="2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Algebra ja funktsioonide konstrueerimine</a:t>
            </a:r>
            <a:br>
              <a:rPr sz="1600"/>
            </a:br>
            <a:endParaRPr b="1" lang="en-US" sz="2400" spc="-1" strike="noStrike">
              <a:solidFill>
                <a:srgbClr val="000099"/>
              </a:solidFill>
              <a:latin typeface="Bitstream Vera Sans"/>
            </a:endParaRPr>
          </a:p>
        </p:txBody>
      </p:sp>
      <p:sp>
        <p:nvSpPr>
          <p:cNvPr id="225" name="PlaceHolder 2"/>
          <p:cNvSpPr>
            <a:spLocks noGrp="1"/>
          </p:cNvSpPr>
          <p:nvPr>
            <p:ph/>
          </p:nvPr>
        </p:nvSpPr>
        <p:spPr>
          <a:xfrm>
            <a:off x="838080" y="762120"/>
            <a:ext cx="7848720" cy="7380000"/>
          </a:xfrm>
          <a:prstGeom prst="rect">
            <a:avLst/>
          </a:prstGeom>
          <a:noFill/>
          <a:ln w="0">
            <a:noFill/>
          </a:ln>
        </p:spPr>
        <p:txBody>
          <a:bodyPr lIns="92160" rIns="92160" tIns="46080" bIns="46080" anchor="t">
            <a:normAutofit/>
          </a:bodyPr>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Lattice Axiom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z = x ^ (y ^ z).</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y = y v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y) v z = x v (y v z).</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x ^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x v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Idempotence (follows from the lattice axiom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The following gives us ortholattice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 x = 0.</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v x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c(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c(c(x) v c(y)).</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Ortholattice lemma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1 v x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1 ^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0 ^ x = 0.</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0 v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Weak orthomodular law </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 (x v y)) v (c(y) v (x ^ y))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990033"/>
                </a:solidFill>
                <a:latin typeface="Arial Unicode MS"/>
              </a:rPr>
              <a:t>% Denial of equation in question</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A ^ (B v (A ^ (c(A) v (A ^ B)))) != A ^ (c(A) v (A ^ B)).</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6" name=""/>
          <p:cNvGrpSpPr/>
          <p:nvPr/>
        </p:nvGrpSpPr>
        <p:grpSpPr>
          <a:xfrm>
            <a:off x="914400" y="299520"/>
            <a:ext cx="7772400" cy="311400"/>
            <a:chOff x="914400" y="299520"/>
            <a:chExt cx="7772400" cy="311400"/>
          </a:xfrm>
        </p:grpSpPr>
        <p:sp>
          <p:nvSpPr>
            <p:cNvPr id="2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29" name=""/>
          <p:cNvSpPr/>
          <p:nvPr/>
        </p:nvSpPr>
        <p:spPr>
          <a:xfrm>
            <a:off x="5715000" y="838080"/>
            <a:ext cx="152280" cy="5257800"/>
          </a:xfrm>
          <a:custGeom>
            <a:avLst/>
            <a:gdLst/>
            <a:ahLst/>
            <a:rect l="l" t="t" r="r" b="b"/>
            <a:pathLst>
              <a:path w="424" h="14607">
                <a:moveTo>
                  <a:pt x="0" y="0"/>
                </a:moveTo>
                <a:cubicBezTo>
                  <a:pt x="105" y="0"/>
                  <a:pt x="211" y="608"/>
                  <a:pt x="211" y="1217"/>
                </a:cubicBezTo>
                <a:lnTo>
                  <a:pt x="211" y="6085"/>
                </a:lnTo>
                <a:cubicBezTo>
                  <a:pt x="211" y="6694"/>
                  <a:pt x="317" y="7303"/>
                  <a:pt x="423" y="7303"/>
                </a:cubicBezTo>
                <a:cubicBezTo>
                  <a:pt x="317" y="7303"/>
                  <a:pt x="211" y="7911"/>
                  <a:pt x="211" y="8520"/>
                </a:cubicBezTo>
                <a:lnTo>
                  <a:pt x="211" y="13388"/>
                </a:lnTo>
                <a:cubicBezTo>
                  <a:pt x="211" y="13997"/>
                  <a:pt x="105" y="14606"/>
                  <a:pt x="0" y="14606"/>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6364440" y="2098800"/>
            <a:ext cx="2165040" cy="1424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faktid ja reeglid,</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is defineerivad,</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is asi on </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atemaatikas</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a:t>
            </a:r>
            <a:r>
              <a:rPr b="0" lang="en-GB" sz="1800" spc="-1" strike="noStrike">
                <a:solidFill>
                  <a:srgbClr val="cc0000"/>
                </a:solidFill>
                <a:latin typeface="Bitstream Vera Sans"/>
              </a:rPr>
              <a:t>ortholattice”</a:t>
            </a:r>
            <a:endParaRPr b="0" lang="en-US" sz="1800" spc="-1" strike="noStrike">
              <a:solidFill>
                <a:srgbClr val="000000"/>
              </a:solidFill>
              <a:latin typeface="Times New Roman"/>
            </a:endParaRPr>
          </a:p>
        </p:txBody>
      </p:sp>
      <p:sp>
        <p:nvSpPr>
          <p:cNvPr id="231" name=""/>
          <p:cNvSpPr/>
          <p:nvPr/>
        </p:nvSpPr>
        <p:spPr>
          <a:xfrm flipH="1">
            <a:off x="4411800" y="4800600"/>
            <a:ext cx="1761840" cy="685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6363000" y="4765680"/>
            <a:ext cx="2475720" cy="11581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näitame, et on</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olemas ortholattice,</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kus see võrdus </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ei kehti</a:t>
            </a:r>
            <a:endParaRPr b="0" lang="en-US" sz="18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s on näites vaja teha?</a:t>
            </a:r>
            <a:br>
              <a:rPr sz="1600"/>
            </a:br>
            <a:endParaRPr b="1" lang="en-US" sz="2400" spc="-1" strike="noStrike">
              <a:solidFill>
                <a:srgbClr val="000099"/>
              </a:solidFill>
              <a:latin typeface="Bitstream Vera Sans"/>
            </a:endParaRPr>
          </a:p>
        </p:txBody>
      </p:sp>
      <p:sp>
        <p:nvSpPr>
          <p:cNvPr id="234" name="PlaceHolder 2"/>
          <p:cNvSpPr>
            <a:spLocks noGrp="1"/>
          </p:cNvSpPr>
          <p:nvPr>
            <p:ph/>
          </p:nvPr>
        </p:nvSpPr>
        <p:spPr>
          <a:xfrm>
            <a:off x="838080" y="761760"/>
            <a:ext cx="7848720" cy="8367480"/>
          </a:xfrm>
          <a:prstGeom prst="rect">
            <a:avLst/>
          </a:prstGeom>
          <a:noFill/>
          <a:ln w="0">
            <a:noFill/>
          </a:ln>
        </p:spPr>
        <p:txBody>
          <a:bodyPr lIns="92160" rIns="92160" tIns="46080" bIns="46080" anchor="t">
            <a:normAutofit/>
          </a:bodyPr>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onstrueerida kahe argumendiga funktsioonid </a:t>
            </a:r>
            <a:r>
              <a:rPr b="0" lang="en-GB" sz="1800" spc="-1" strike="noStrike">
                <a:solidFill>
                  <a:srgbClr val="000000"/>
                </a:solidFill>
                <a:latin typeface="Arial Unicode MS"/>
              </a:rPr>
              <a:t> </a:t>
            </a:r>
            <a:r>
              <a:rPr b="1" lang="en-GB" sz="1800" spc="-1" strike="noStrike">
                <a:solidFill>
                  <a:srgbClr val="000000"/>
                </a:solidFill>
                <a:latin typeface="Arial Unicode MS"/>
              </a:rPr>
              <a:t>^(x,y) </a:t>
            </a:r>
            <a:r>
              <a:rPr b="0" lang="en-GB" sz="1800" spc="-1" strike="noStrike">
                <a:solidFill>
                  <a:srgbClr val="000000"/>
                </a:solidFill>
                <a:latin typeface="Arial Unicode MS"/>
              </a:rPr>
              <a:t>ja </a:t>
            </a:r>
            <a:r>
              <a:rPr b="1" lang="en-GB" sz="1800" spc="-1" strike="noStrike">
                <a:solidFill>
                  <a:srgbClr val="000000"/>
                </a:solidFill>
                <a:latin typeface="Arial Unicode MS"/>
              </a:rPr>
              <a:t>v(x,y) </a:t>
            </a:r>
            <a:r>
              <a:rPr b="0" lang="en-GB" sz="1800" spc="-1" strike="noStrike">
                <a:solidFill>
                  <a:srgbClr val="000000"/>
                </a:solidFill>
                <a:latin typeface="Arial Unicode MS"/>
              </a:rPr>
              <a:t>niimoodi, et </a:t>
            </a:r>
            <a:r>
              <a:rPr b="0" lang="en-GB" sz="1800" spc="-1" strike="noStrike">
                <a:solidFill>
                  <a:srgbClr val="000000"/>
                </a:solidFill>
                <a:latin typeface="Bitstream Vera Sans"/>
              </a:rPr>
              <a:t>võrrandid kehtiksid ja lõpus toodud võrdus ei kehtiks,</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Funktsioon antakse</a:t>
            </a:r>
            <a:r>
              <a:rPr b="1" lang="en-GB" sz="1800" spc="-1" strike="noStrike">
                <a:solidFill>
                  <a:srgbClr val="000000"/>
                </a:solidFill>
                <a:latin typeface="Bitstream Vera Sans"/>
              </a:rPr>
              <a:t> tabeli kujul: </a:t>
            </a:r>
            <a:r>
              <a:rPr b="1" lang="en-GB" sz="1800" spc="-1" strike="noStrike">
                <a:solidFill>
                  <a:srgbClr val="000000"/>
                </a:solidFill>
                <a:latin typeface="Arial Unicode MS"/>
              </a:rPr>
              <a:t>^(0,0)=1, ^(0,1)=0, ^(0,0)=19 jne jne</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ks see on raske?</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lgu meil 20 elementi, mille peal funktsiooni väärtusi arvutatakse. Siis on kummalgi funktsioonil argumendikomplektid:</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Arial Unicode MS"/>
              </a:rPr>
              <a:t> </a:t>
            </a:r>
            <a:r>
              <a:rPr b="1" lang="en-GB" sz="1800" spc="-1" strike="noStrike">
                <a:solidFill>
                  <a:srgbClr val="000000"/>
                </a:solidFill>
                <a:latin typeface="Arial Unicode MS"/>
              </a:rPr>
              <a:t>^(0,0)</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1" lang="en-GB" sz="1800" spc="-1" strike="noStrike">
                <a:solidFill>
                  <a:srgbClr val="000000"/>
                </a:solidFill>
                <a:latin typeface="Arial Unicode MS"/>
              </a:rPr>
              <a:t>^(0,1)</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0" lang="en-GB" sz="1800" spc="-1" strike="noStrike">
                <a:solidFill>
                  <a:srgbClr val="000000"/>
                </a:solidFill>
                <a:latin typeface="Arial Unicode MS"/>
              </a:rPr>
              <a:t>...</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1" lang="en-GB" sz="1800" spc="-1" strike="noStrike">
                <a:solidFill>
                  <a:srgbClr val="000000"/>
                </a:solidFill>
                <a:latin typeface="Arial Unicode MS"/>
              </a:rPr>
              <a:t>^(20,20)</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Funktsioone on kaks, st argumendikomplekte kokku on 800.</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ga komplekt peab tabelis saama ühe väärtuse vahemikus 0...20</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eega on valikuvariante tabelite ehitamiseks </a:t>
            </a:r>
            <a:r>
              <a:rPr b="1" lang="en-GB" sz="1800" spc="-1" strike="noStrike">
                <a:solidFill>
                  <a:srgbClr val="000000"/>
                </a:solidFill>
                <a:latin typeface="Bitstream Vera Sans"/>
              </a:rPr>
              <a:t>2 astmes 800</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5" name=""/>
          <p:cNvGrpSpPr/>
          <p:nvPr/>
        </p:nvGrpSpPr>
        <p:grpSpPr>
          <a:xfrm>
            <a:off x="914400" y="299520"/>
            <a:ext cx="7772400" cy="311400"/>
            <a:chOff x="914400" y="299520"/>
            <a:chExt cx="7772400" cy="311400"/>
          </a:xfrm>
        </p:grpSpPr>
        <p:sp>
          <p:nvSpPr>
            <p:cNvPr id="2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8" name=""/>
          <p:cNvSpPr/>
          <p:nvPr/>
        </p:nvSpPr>
        <p:spPr>
          <a:xfrm>
            <a:off x="2347920" y="3639960"/>
            <a:ext cx="152280" cy="1067040"/>
          </a:xfrm>
          <a:custGeom>
            <a:avLst/>
            <a:gdLst/>
            <a:ahLst/>
            <a:rect l="l" t="t" r="r" b="b"/>
            <a:pathLst>
              <a:path w="424" h="2964">
                <a:moveTo>
                  <a:pt x="0" y="0"/>
                </a:moveTo>
                <a:cubicBezTo>
                  <a:pt x="105" y="0"/>
                  <a:pt x="211" y="123"/>
                  <a:pt x="211" y="246"/>
                </a:cubicBezTo>
                <a:lnTo>
                  <a:pt x="211" y="1234"/>
                </a:lnTo>
                <a:cubicBezTo>
                  <a:pt x="211" y="1358"/>
                  <a:pt x="317" y="1481"/>
                  <a:pt x="423" y="1481"/>
                </a:cubicBezTo>
                <a:cubicBezTo>
                  <a:pt x="317" y="1481"/>
                  <a:pt x="211" y="1605"/>
                  <a:pt x="211" y="1728"/>
                </a:cubicBezTo>
                <a:lnTo>
                  <a:pt x="211" y="2716"/>
                </a:lnTo>
                <a:cubicBezTo>
                  <a:pt x="211" y="2840"/>
                  <a:pt x="105" y="2963"/>
                  <a:pt x="0" y="2963"/>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a:off x="2817720" y="3394080"/>
            <a:ext cx="4376880" cy="82620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okku 20*20 komplekti, st 400 tk.</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Näide: üks kahest tabelist</a:t>
            </a:r>
            <a:br>
              <a:rPr sz="1600"/>
            </a:b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1760"/>
            <a:ext cx="7848720" cy="63687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emad programmid (icgns, Gandalf) saavad hakkama vähem kui ühe minutiga!</a:t>
            </a:r>
            <a:endParaRPr b="1" lang="en-US" sz="18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0 1 2 3 4 5 6 7 8 910111213141516171819</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0 | 0 0 0 0 0 0 0 0 0 0 0 0 0 0 0 0 0 0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 | 0 1 2 3 4 5 6 7 8 910111213141516171819</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2 | 0 2 2 0 6 0 6 912 916 012 916 0161818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3 | 0 3 0 3 0 0 0 3 3 0 0 0 0 3 0 0 0 3 0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4 | 0 4 6 0 4 0 611 6 0 611 611 4 0 611 0 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5 | 0 5 0 0 0 5 0 5 0 0 5 0 015 015 015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6 | 0 6 6 0 6 0 6 0 6 0 6 0 6 0 6 0 6 0 0 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7 | 0 7 9 311 5 0 7 3 9 511 013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8 | 0 812 3 6 0 6 3 8 012 012 312 012 3 0 8</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9 | 0 9 9 0 0 0 0 9 0 9 0 0 0 9 0 0 01818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0 | 01016 0 6 5 6 512 010 0121516151615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1 | 011 0 011 0 011 0 0 011 01111 0 011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2 | 01212 0 6 0 6 012 012 012 012 012 0 012</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3 | 013 9 31115 013 3 91511 013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4 | 01416 0 4 0 61112 01611121114 01611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5 | 015 0 0 015 015 0 015 0 015 015 015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6 | 01616 0 6 0 6 012 016 012 016 016 0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7 | 01718 31115 017 3181511 017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8 | 01818 0 0 0 018 018 0 0 018 0 0 01818 0</a:t>
            </a:r>
            <a:endParaRPr b="1" lang="en-US" sz="1400" spc="-1" strike="noStrike">
              <a:solidFill>
                <a:srgbClr val="000000"/>
              </a:solidFill>
              <a:latin typeface="Bitstream Vera Sans"/>
            </a:endParaRPr>
          </a:p>
          <a:p>
            <a:pPr marL="228600" indent="0">
              <a:lnSpc>
                <a:spcPct val="9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0">
              <a:lnSpc>
                <a:spcPct val="9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42" name=""/>
          <p:cNvGrpSpPr/>
          <p:nvPr/>
        </p:nvGrpSpPr>
        <p:grpSpPr>
          <a:xfrm>
            <a:off x="914400" y="299520"/>
            <a:ext cx="7772400" cy="311400"/>
            <a:chOff x="914400" y="299520"/>
            <a:chExt cx="7772400" cy="311400"/>
          </a:xfrm>
        </p:grpSpPr>
        <p:sp>
          <p:nvSpPr>
            <p:cNvPr id="2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kspertsüsteemid</a:t>
            </a:r>
            <a:br>
              <a:rPr sz="1600"/>
            </a:b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kspertsüsteem on mõne spetsiifilise valdkonna jaoks kohandatud järelduste tegemise programm (variant teoreemitõestaja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ihtpeale kasutavad ebaharilikku, spetsiaalselt valdkonnaga sobitatud loogika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namasti sisaldavad paljusid valmiskujul reegle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namasti sisaldavad mugavat kasutajaliidest: kasutaja ei pea loogika keelt oska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
          <p:cNvGrpSpPr/>
          <p:nvPr/>
        </p:nvGrpSpPr>
        <p:grpSpPr>
          <a:xfrm>
            <a:off x="914400" y="299520"/>
            <a:ext cx="7772400" cy="311400"/>
            <a:chOff x="914400" y="299520"/>
            <a:chExt cx="7772400" cy="311400"/>
          </a:xfrm>
        </p:grpSpPr>
        <p:sp>
          <p:nvSpPr>
            <p:cNvPr id="2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Intelligentsed agendid</a:t>
            </a:r>
            <a:endParaRPr b="1" lang="en-US" sz="2400" spc="-1" strike="noStrike">
              <a:solidFill>
                <a:srgbClr val="000099"/>
              </a:solidFill>
              <a:latin typeface="Bitstream Vera Sans"/>
            </a:endParaRPr>
          </a:p>
        </p:txBody>
      </p:sp>
      <p:sp>
        <p:nvSpPr>
          <p:cNvPr id="2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telligentne agent on nagu robot ilma füüsiseta: ta on ainult programm, mis suhtleb välismaailmaga standardse programmi kombel:</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isplay</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laviatuur</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iir</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 ja muud võrguühendused</a:t>
            </a:r>
            <a:endParaRPr b="0" lang="en-US" sz="1800" spc="-1" strike="noStrike">
              <a:solidFill>
                <a:srgbClr val="000000"/>
              </a:solidFill>
              <a:latin typeface="Bitstream Vera Sans"/>
            </a:endParaRPr>
          </a:p>
          <a:p>
            <a:pPr lvl="1" marL="50976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telligentne agent peaks ise koguma võrgust infot, talletama kasutaja antud reegleid ja fakte, oskama vastata tema päringutele, tegema ise võrgust otsinguid jne.</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2" name=""/>
          <p:cNvGrpSpPr/>
          <p:nvPr/>
        </p:nvGrpSpPr>
        <p:grpSpPr>
          <a:xfrm>
            <a:off x="914400" y="299520"/>
            <a:ext cx="7772400" cy="311400"/>
            <a:chOff x="914400" y="299520"/>
            <a:chExt cx="7772400" cy="311400"/>
          </a:xfrm>
        </p:grpSpPr>
        <p:sp>
          <p:nvSpPr>
            <p:cNvPr id="2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ildi tuvastamine</a:t>
            </a:r>
            <a:endParaRPr b="1" lang="en-US" sz="2400" spc="-1" strike="noStrike">
              <a:solidFill>
                <a:srgbClr val="000099"/>
              </a:solidFill>
              <a:latin typeface="Bitstream Vera Sans"/>
            </a:endParaRPr>
          </a:p>
        </p:txBody>
      </p:sp>
      <p:sp>
        <p:nvSpPr>
          <p:cNvPr id="256" name="PlaceHolder 2"/>
          <p:cNvSpPr>
            <a:spLocks noGrp="1"/>
          </p:cNvSpPr>
          <p:nvPr>
            <p:ph/>
          </p:nvPr>
        </p:nvSpPr>
        <p:spPr>
          <a:xfrm>
            <a:off x="838080" y="761760"/>
            <a:ext cx="7848720" cy="57178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tud suurt progressi sõjatööstuse vajaduste tõttu.</a:t>
            </a: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üüpiline ülesanne: tunda ära kaamerapildist vaenlase tankid:</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stada neid veoautodest</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stada neid oma tankidest</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utatakse palju närvivõrkude abil õppim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aneme tähele, e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poolt kogetud pilt on peamiselt tema aju poolt loodud, mitte aga “toores pilt”, mis tuleb silmanärvidest: viimane on väga halva kvaliteedig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aju on võimeline täiesti iseseisvalt looma visuaalset pilti:</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ne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allutsinatsioonide käigus</a:t>
            </a:r>
            <a:endParaRPr b="0" lang="en-US" sz="1800" spc="-1" strike="noStrike">
              <a:solidFill>
                <a:srgbClr val="000000"/>
              </a:solidFill>
              <a:latin typeface="Bitstream Vera Sans"/>
            </a:endParaRPr>
          </a:p>
        </p:txBody>
      </p:sp>
      <p:grpSp>
        <p:nvGrpSpPr>
          <p:cNvPr id="257" name=""/>
          <p:cNvGrpSpPr/>
          <p:nvPr/>
        </p:nvGrpSpPr>
        <p:grpSpPr>
          <a:xfrm>
            <a:off x="914400" y="299520"/>
            <a:ext cx="7772400" cy="311400"/>
            <a:chOff x="914400" y="299520"/>
            <a:chExt cx="7772400" cy="311400"/>
          </a:xfrm>
        </p:grpSpPr>
        <p:sp>
          <p:nvSpPr>
            <p:cNvPr id="2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eesmärgid</a:t>
            </a:r>
            <a:br>
              <a:rPr sz="1600"/>
            </a:br>
            <a:endParaRPr b="1" lang="en-US" sz="2400" spc="-1" strike="noStrike">
              <a:solidFill>
                <a:srgbClr val="000099"/>
              </a:solidFill>
              <a:latin typeface="Bitstream Vera Sans"/>
            </a:endParaRPr>
          </a:p>
        </p:txBody>
      </p:sp>
      <p:sp>
        <p:nvSpPr>
          <p:cNvPr id="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nevad eesmärgid, üldiselt konkreetsel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suur eesmärk</a:t>
            </a:r>
            <a:r>
              <a:rPr b="0" lang="en-GB" sz="1800" spc="-1" strike="noStrike">
                <a:solidFill>
                  <a:srgbClr val="000000"/>
                </a:solidFill>
                <a:latin typeface="Bitstream Vera Sans"/>
              </a:rPr>
              <a:t>” on päriselt intelligentse masina ehitamine: riistvara + tarkvar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filosoofiline eesmärk</a:t>
            </a:r>
            <a:r>
              <a:rPr b="0" lang="en-GB" sz="1800" spc="-1" strike="noStrike">
                <a:solidFill>
                  <a:srgbClr val="000000"/>
                </a:solidFill>
                <a:latin typeface="Bitstream Vera Sans"/>
              </a:rPr>
              <a:t>” on saada paremini aru mõistuse (sh inimese ja loomade) funktsioneerimise põhimõtetest üldse.</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praktiline eesmärk</a:t>
            </a:r>
            <a:r>
              <a:rPr b="0" lang="en-GB" sz="1800" spc="-1" strike="noStrike">
                <a:solidFill>
                  <a:srgbClr val="000000"/>
                </a:solidFill>
                <a:latin typeface="Bitstream Vera Sans"/>
              </a:rPr>
              <a:t>” on teha programme, mis oskaksid lahendada keerulisi ülesandeid, mille jaoks siiani on inimesi vaj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0" name=""/>
          <p:cNvGrpSpPr/>
          <p:nvPr/>
        </p:nvGrpSpPr>
        <p:grpSpPr>
          <a:xfrm>
            <a:off x="914400" y="299520"/>
            <a:ext cx="7772400" cy="311400"/>
            <a:chOff x="914400" y="299520"/>
            <a:chExt cx="7772400" cy="311400"/>
          </a:xfrm>
        </p:grpSpPr>
        <p:sp>
          <p:nvSpPr>
            <p:cNvPr id="1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õne tuvastamine</a:t>
            </a:r>
            <a:endParaRPr b="1" lang="en-US" sz="2400" spc="-1" strike="noStrike">
              <a:solidFill>
                <a:srgbClr val="000099"/>
              </a:solidFill>
              <a:latin typeface="Bitstream Vera Sans"/>
            </a:endParaRPr>
          </a:p>
        </p:txBody>
      </p:sp>
      <p:sp>
        <p:nvSpPr>
          <p:cNvPr id="2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ne moondamine tekstiks on üllatavalt rask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ällegi, kõrvanärvidest tulev info on ebakvaliteetne (nii ka mikrofonist).</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ske on teha vahet kõnel ja taustamüral.</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ske on “viia kokku” eri hääldustega eri inimeste poolt öeldud sõnu</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ne adekvaatseks tuvastamiseks on vaja temast </a:t>
            </a:r>
            <a:r>
              <a:rPr b="1" lang="en-GB" sz="1800" spc="-1" strike="noStrike">
                <a:solidFill>
                  <a:srgbClr val="000000"/>
                </a:solidFill>
                <a:latin typeface="Bitstream Vera Sans"/>
              </a:rPr>
              <a:t>samal ajal aru saad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tuvastage võõras keeles kõnet taustamürast, eraldage sealt sõnu!</a:t>
            </a:r>
            <a:endParaRPr b="1" lang="en-US" sz="1800" spc="-1" strike="noStrike">
              <a:solidFill>
                <a:srgbClr val="000000"/>
              </a:solidFill>
              <a:latin typeface="Bitstream Vera Sans"/>
            </a:endParaRPr>
          </a:p>
        </p:txBody>
      </p:sp>
      <p:grpSp>
        <p:nvGrpSpPr>
          <p:cNvPr id="262" name=""/>
          <p:cNvGrpSpPr/>
          <p:nvPr/>
        </p:nvGrpSpPr>
        <p:grpSpPr>
          <a:xfrm>
            <a:off x="914400" y="299520"/>
            <a:ext cx="7772400" cy="311400"/>
            <a:chOff x="914400" y="299520"/>
            <a:chExt cx="7772400" cy="311400"/>
          </a:xfrm>
        </p:grpSpPr>
        <p:sp>
          <p:nvSpPr>
            <p:cNvPr id="2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eksti mõistmine ja tõlkimine</a:t>
            </a:r>
            <a:endParaRPr b="1" lang="en-US" sz="2400" spc="-1" strike="noStrike">
              <a:solidFill>
                <a:srgbClr val="000099"/>
              </a:solidFill>
              <a:latin typeface="Bitstream Vera Sans"/>
            </a:endParaRPr>
          </a:p>
        </p:txBody>
      </p:sp>
      <p:sp>
        <p:nvSpPr>
          <p:cNvPr id="2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mõistmine tähendaks selle teisendamist “sisemisteks”, näiteks loogikakeelseteks faktideks ja reegliteks.</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tähendus sõltub tohutult kontekst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tähenduse teisendamine sisemisteks reegliteks eeldab väga suurte teadmiste olemasolu maailmast ja teksti kirjutaja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ama probleem on tõlkimise juures: kvaliteetne tõlge eeldab teksti mõistm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ttekvaliteetne tõlge on samas lihtne. Vt võrgust “babelfish”.</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7" name=""/>
          <p:cNvGrpSpPr/>
          <p:nvPr/>
        </p:nvGrpSpPr>
        <p:grpSpPr>
          <a:xfrm>
            <a:off x="914400" y="299520"/>
            <a:ext cx="7772400" cy="311400"/>
            <a:chOff x="914400" y="299520"/>
            <a:chExt cx="7772400" cy="311400"/>
          </a:xfrm>
        </p:grpSpPr>
        <p:sp>
          <p:nvSpPr>
            <p:cNvPr id="2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Robootika</a:t>
            </a:r>
            <a:br>
              <a:rPr sz="1600"/>
            </a:br>
            <a:endParaRPr b="1" lang="en-US" sz="2400" spc="-1" strike="noStrike">
              <a:solidFill>
                <a:srgbClr val="000099"/>
              </a:solidFill>
              <a:latin typeface="Bitstream Vera Sans"/>
            </a:endParaRPr>
          </a:p>
        </p:txBody>
      </p:sp>
      <p:sp>
        <p:nvSpPr>
          <p:cNvPr id="2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isuliselt süntees kogu tehisintellektindus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isandub:</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haanik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haanika kiire ja täpne juhtimine (füüsikalised arvutused)</a:t>
            </a: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pärast on “vingeid” roboteid praegusaja tehnoloogiaga pea võimatu teh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ei suuda keegi teha robot-tennisisti, kes natukenegi mängi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tud on küll väga kehvasid robot-lauatennisemängija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2" name=""/>
          <p:cNvGrpSpPr/>
          <p:nvPr/>
        </p:nvGrpSpPr>
        <p:grpSpPr>
          <a:xfrm>
            <a:off x="914400" y="299520"/>
            <a:ext cx="7772400" cy="311400"/>
            <a:chOff x="914400" y="299520"/>
            <a:chExt cx="7772400" cy="311400"/>
          </a:xfrm>
        </p:grpSpPr>
        <p:sp>
          <p:nvSpPr>
            <p:cNvPr id="27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õtlemismängude programmeerimine</a:t>
            </a:r>
            <a:endParaRPr b="1" lang="en-US" sz="2400" spc="-1" strike="noStrike">
              <a:solidFill>
                <a:srgbClr val="000099"/>
              </a:solidFill>
              <a:latin typeface="Bitstream Vera Sans"/>
            </a:endParaRPr>
          </a:p>
        </p:txBody>
      </p:sp>
      <p:sp>
        <p:nvSpPr>
          <p:cNvPr id="27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Mis on ülesanne?</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l on lauamäng (male, kabe vms), kus on kaks mängijat.</a:t>
            </a:r>
            <a:endParaRPr b="1" lang="en-US" sz="18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mbki tahab võita.</a:t>
            </a:r>
            <a:endParaRPr b="1" lang="en-US" sz="18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me arvutiprogrammi, mis võtab seisu ette ja püüab leida võimalikult hea käigu sellest seisust.</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77" name=""/>
          <p:cNvGrpSpPr/>
          <p:nvPr/>
        </p:nvGrpSpPr>
        <p:grpSpPr>
          <a:xfrm>
            <a:off x="838080" y="376200"/>
            <a:ext cx="7770960" cy="311040"/>
            <a:chOff x="838080" y="376200"/>
            <a:chExt cx="7770960" cy="311040"/>
          </a:xfrm>
        </p:grpSpPr>
        <p:sp>
          <p:nvSpPr>
            <p:cNvPr id="27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eidi ajalugu</a:t>
            </a:r>
            <a:endParaRPr b="1" lang="en-US" sz="2400" spc="-1" strike="noStrike">
              <a:solidFill>
                <a:srgbClr val="000099"/>
              </a:solidFill>
              <a:latin typeface="Bitstream Vera Sans"/>
            </a:endParaRPr>
          </a:p>
        </p:txBody>
      </p:sp>
      <p:sp>
        <p:nvSpPr>
          <p:cNvPr id="281" name="PlaceHolder 2"/>
          <p:cNvSpPr>
            <a:spLocks noGrp="1"/>
          </p:cNvSpPr>
          <p:nvPr>
            <p:ph/>
          </p:nvPr>
        </p:nvSpPr>
        <p:spPr>
          <a:xfrm>
            <a:off x="838080" y="761760"/>
            <a:ext cx="7848720" cy="726444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ise maailmasõja paiku:  </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an Turing tegi valmis maleprogrammi, aga tal ei olnud arvutit selle täitmiseks. Turing täitis programmi ise: paberi ja pliiatsi abi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ngis paar partiid: iga partii võttis hirmus kaua aega.</a:t>
            </a: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1940-1990: </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d läksid aeglaselt paremaks, arvutid kiiremaks, aga tipp-inim-mängijad olid programmidest kõvasti paremad.</a:t>
            </a: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1990-2000:</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d hakkasid tipp-inim-mängijaid järjepanu võitma</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HINOOK</a:t>
            </a:r>
            <a:r>
              <a:rPr b="0" lang="en-GB" sz="1800" spc="-1" strike="noStrike">
                <a:solidFill>
                  <a:srgbClr val="000000"/>
                </a:solidFill>
                <a:latin typeface="Bitstream Vera Sans"/>
              </a:rPr>
              <a:t> – 1994, 8x8 inglise kabe maailmameister</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ep Blue</a:t>
            </a:r>
            <a:r>
              <a:rPr b="0" lang="en-GB" sz="1800" spc="-1" strike="noStrike">
                <a:solidFill>
                  <a:srgbClr val="000000"/>
                </a:solidFill>
                <a:latin typeface="Bitstream Vera Sans"/>
              </a:rPr>
              <a:t> – 1997, võitis Garry Kasparovit malematshis</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GISTELLO</a:t>
            </a:r>
            <a:r>
              <a:rPr b="0" lang="en-GB" sz="1800" spc="-1" strike="noStrike">
                <a:solidFill>
                  <a:srgbClr val="000000"/>
                </a:solidFill>
                <a:latin typeface="Bitstream Vera Sans"/>
              </a:rPr>
              <a:t> – 1997, võitis Othello (Reversi) maailmameistrit Takeshi Murakamit</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aegune seis:</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mete mängude (Go, Bridzh, ...) jaoks on inim-mängijad endiselt programmidest hulga paremad</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2" name=""/>
          <p:cNvGrpSpPr/>
          <p:nvPr/>
        </p:nvGrpSpPr>
        <p:grpSpPr>
          <a:xfrm>
            <a:off x="838080" y="376200"/>
            <a:ext cx="7770960" cy="311040"/>
            <a:chOff x="838080" y="376200"/>
            <a:chExt cx="7770960" cy="311040"/>
          </a:xfrm>
        </p:grpSpPr>
        <p:sp>
          <p:nvSpPr>
            <p:cNvPr id="28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maleprogrammi teha?</a:t>
            </a:r>
            <a:endParaRPr b="1" lang="en-US" sz="2400" spc="-1" strike="noStrike">
              <a:solidFill>
                <a:srgbClr val="000099"/>
              </a:solidFill>
              <a:latin typeface="Bitstream Vera Sans"/>
            </a:endParaRPr>
          </a:p>
        </p:txBody>
      </p:sp>
      <p:sp>
        <p:nvSpPr>
          <p:cNvPr id="286" name="PlaceHolder 2"/>
          <p:cNvSpPr>
            <a:spLocks noGrp="1"/>
          </p:cNvSpPr>
          <p:nvPr>
            <p:ph/>
          </p:nvPr>
        </p:nvSpPr>
        <p:spPr>
          <a:xfrm>
            <a:off x="838080" y="990720"/>
            <a:ext cx="7848720" cy="683568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eme kõigepealt programmi, mis:</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r>
              <a:rPr b="0" lang="en-GB" sz="1800" spc="-1" strike="noStrike">
                <a:solidFill>
                  <a:srgbClr val="000000"/>
                </a:solidFill>
                <a:latin typeface="Bitstream Vera Sans"/>
              </a:rPr>
              <a:t>loeb seisu</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eeb seisu järgi mällu tabeli kõigist võimalikest käikudest selles seisus.</a:t>
            </a:r>
            <a:endParaRPr b="0" lang="en-US" sz="1800" spc="-1" strike="noStrike">
              <a:solidFill>
                <a:srgbClr val="000000"/>
              </a:solidFill>
              <a:latin typeface="Bitstream Vera Sans"/>
            </a:endParaRPr>
          </a:p>
          <a:p>
            <a:pPr lvl="1" marL="73836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ee ei olegi nii väga keeruline programm</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les keerulise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bes lihtsa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hello (reversi) veel lihtsa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is nuppu ritta: väga lihtne</a:t>
            </a:r>
            <a:endParaRPr b="0" lang="en-US" sz="1800" spc="-1" strike="noStrike">
              <a:solidFill>
                <a:srgbClr val="000000"/>
              </a:solidFill>
              <a:latin typeface="Bitstream Vera Sans"/>
            </a:endParaRPr>
          </a:p>
          <a:p>
            <a:pPr marL="3380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üüd võib programm tabelist juhusliku käigu valida.</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Ja juba mängibki!   Kuigi kehvasti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7" name=""/>
          <p:cNvGrpSpPr/>
          <p:nvPr/>
        </p:nvGrpSpPr>
        <p:grpSpPr>
          <a:xfrm>
            <a:off x="838080" y="376200"/>
            <a:ext cx="7770960" cy="311040"/>
            <a:chOff x="838080" y="376200"/>
            <a:chExt cx="7770960" cy="311040"/>
          </a:xfrm>
        </p:grpSpPr>
        <p:sp>
          <p:nvSpPr>
            <p:cNvPr id="28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programmi veidi paremaks teha?</a:t>
            </a:r>
            <a:endParaRPr b="1" lang="en-US" sz="2400" spc="-1" strike="noStrike">
              <a:solidFill>
                <a:srgbClr val="000099"/>
              </a:solidFill>
              <a:latin typeface="Bitstream Vera Sans"/>
            </a:endParaRPr>
          </a:p>
        </p:txBody>
      </p:sp>
      <p:sp>
        <p:nvSpPr>
          <p:cNvPr id="291" name="PlaceHolder 2"/>
          <p:cNvSpPr>
            <a:spLocks noGrp="1"/>
          </p:cNvSpPr>
          <p:nvPr>
            <p:ph/>
          </p:nvPr>
        </p:nvSpPr>
        <p:spPr>
          <a:xfrm>
            <a:off x="838080" y="990360"/>
            <a:ext cx="7848720" cy="610236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eme eraldi väikese programmi, mis:</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tab seisu ette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Ütleb umbes, kui hea seis on.</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isu “headus” on number, mille meie programm arvutab.</a:t>
            </a:r>
            <a:endParaRPr b="0"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uidas öelda “kui hea”?</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hel lihtne: kaotus / võit/ ei kumbki.</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umbrid:          1         -1            0</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erulisem: “harilik maleseis”.  Kumbalgi pole võitu ega kaotust.</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92" name=""/>
          <p:cNvGrpSpPr/>
          <p:nvPr/>
        </p:nvGrpSpPr>
        <p:grpSpPr>
          <a:xfrm>
            <a:off x="838080" y="376200"/>
            <a:ext cx="7770960" cy="311040"/>
            <a:chOff x="838080" y="376200"/>
            <a:chExt cx="7770960" cy="311040"/>
          </a:xfrm>
        </p:grpSpPr>
        <p:sp>
          <p:nvSpPr>
            <p:cNvPr id="29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eisu hindamine</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990720"/>
            <a:ext cx="7848720" cy="749592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eerulisem olukord: harilik maleseis. </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aterjal:</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meie ja vastase nupud.</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pp annab 10 punkti, vanker 6, jne.</a:t>
            </a: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ositsioon:</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eelviimasel real etturid masinal/inimese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tsentriväljadel olevad etturid masinal/inimese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mitmele tsentriväljale masin/inimene tuld annab</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atame üle kuninga kaitse tugevuse</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okku saame seisu headuse numbri:</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ina materjal – inimese materjal + masina positsioon – inimese positsioon</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97" name=""/>
          <p:cNvGrpSpPr/>
          <p:nvPr/>
        </p:nvGrpSpPr>
        <p:grpSpPr>
          <a:xfrm>
            <a:off x="838080" y="376200"/>
            <a:ext cx="7770960" cy="311040"/>
            <a:chOff x="838080" y="376200"/>
            <a:chExt cx="7770960" cy="311040"/>
          </a:xfrm>
        </p:grpSpPr>
        <p:sp>
          <p:nvSpPr>
            <p:cNvPr id="29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s edasi?</a:t>
            </a:r>
            <a:endParaRPr b="1" lang="en-US" sz="2400" spc="-1" strike="noStrike">
              <a:solidFill>
                <a:srgbClr val="000099"/>
              </a:solidFill>
              <a:latin typeface="Bitstream Vera Sans"/>
            </a:endParaRPr>
          </a:p>
        </p:txBody>
      </p:sp>
      <p:sp>
        <p:nvSpPr>
          <p:cNvPr id="301" name="PlaceHolder 2"/>
          <p:cNvSpPr>
            <a:spLocks noGrp="1"/>
          </p:cNvSpPr>
          <p:nvPr>
            <p:ph/>
          </p:nvPr>
        </p:nvSpPr>
        <p:spPr>
          <a:xfrm>
            <a:off x="838080" y="990360"/>
            <a:ext cx="7848720" cy="79772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üüd on meil kõigi käikude tabel, iga käigu juures arvutame tekkiva seisu headuse numbri.</a:t>
            </a: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alime kõige parema tulemuse (maksimumi numbritest!) andva käigu.</a:t>
            </a: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gramm hakkab veidi paremini mängima, aga:</a:t>
            </a:r>
            <a:endParaRPr b="1" lang="en-US" sz="20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kka mängib väga kehvasti!</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ks? Sest meie seisu headuse hindamise programm on nigel.</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headuse hindamist parandada?</a:t>
            </a:r>
            <a:endParaRPr b="0" lang="en-US" sz="18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Loomulikult tuleks vaadata, mis käike vastane võib peale meie käike teha! Ja kuidas meie võime vastata. Jn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02" name=""/>
          <p:cNvGrpSpPr/>
          <p:nvPr/>
        </p:nvGrpSpPr>
        <p:grpSpPr>
          <a:xfrm>
            <a:off x="838080" y="376200"/>
            <a:ext cx="7770960" cy="311040"/>
            <a:chOff x="838080" y="376200"/>
            <a:chExt cx="7770960" cy="311040"/>
          </a:xfrm>
        </p:grpSpPr>
        <p:sp>
          <p:nvSpPr>
            <p:cNvPr id="30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äikude puu trips-traps-trulli näitel</a:t>
            </a:r>
            <a:endParaRPr b="1" lang="en-US" sz="2400" spc="-1" strike="noStrike">
              <a:solidFill>
                <a:srgbClr val="000099"/>
              </a:solidFill>
              <a:latin typeface="Bitstream Vera Sans"/>
            </a:endParaRPr>
          </a:p>
        </p:txBody>
      </p:sp>
      <p:sp>
        <p:nvSpPr>
          <p:cNvPr id="3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7" name=""/>
          <p:cNvGrpSpPr/>
          <p:nvPr/>
        </p:nvGrpSpPr>
        <p:grpSpPr>
          <a:xfrm>
            <a:off x="914400" y="299520"/>
            <a:ext cx="7772400" cy="311400"/>
            <a:chOff x="914400" y="299520"/>
            <a:chExt cx="7772400" cy="311400"/>
          </a:xfrm>
        </p:grpSpPr>
        <p:sp>
          <p:nvSpPr>
            <p:cNvPr id="3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0" name="" descr=""/>
          <p:cNvPicPr/>
          <p:nvPr/>
        </p:nvPicPr>
        <p:blipFill>
          <a:blip r:embed="rId1"/>
          <a:stretch/>
        </p:blipFill>
        <p:spPr>
          <a:xfrm>
            <a:off x="1295280" y="838080"/>
            <a:ext cx="6858000" cy="55738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ajalugu</a:t>
            </a:r>
            <a:br>
              <a:rPr sz="1600"/>
            </a:b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761760"/>
            <a:ext cx="7848720" cy="64306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1950-60-ndatel, arvutite tekke ajal, olid palju uurijad naiivoptimistlikud:  1960-te lõpuks loodeti:</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rvutist malemaailmameistri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õnet mõistvat ja arusaavat programmi (a la automaatne lennupileti-müüja)</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valiteetset automaattõlge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rste jms spetsialiste praktikas asendavaid programm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õndivaid ja füüsilist tööd tegevaid roboteid</a:t>
            </a:r>
            <a:endParaRPr b="0" lang="en-US" sz="16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kuses osutusid kõik need asjad palju raskemaks, kui algul paistis</a:t>
            </a: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ks?</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Inimene ei teadvusta oma ajutegevus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Inimesele paistab ekslikult, et paljud tema igapäevased toimingud on väga lihtsad ja ei nõua palju teadmisi ja ülikeerukaid ajuprotsesse</a:t>
            </a:r>
            <a:endParaRPr b="0" lang="en-US" sz="16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05" name=""/>
          <p:cNvGrpSpPr/>
          <p:nvPr/>
        </p:nvGrpSpPr>
        <p:grpSpPr>
          <a:xfrm>
            <a:off x="914400" y="299520"/>
            <a:ext cx="7772400" cy="311400"/>
            <a:chOff x="914400" y="299520"/>
            <a:chExt cx="7772400" cy="311400"/>
          </a:xfrm>
        </p:grpSpPr>
        <p:sp>
          <p:nvSpPr>
            <p:cNvPr id="1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uidas sellist seisude puud kasutada?</a:t>
            </a:r>
            <a:br>
              <a:rPr sz="1600"/>
            </a:br>
            <a:endParaRPr b="1" lang="en-US" sz="2400" spc="-1" strike="noStrike">
              <a:solidFill>
                <a:srgbClr val="000099"/>
              </a:solidFill>
              <a:latin typeface="Bitstream Vera Sans"/>
            </a:endParaRPr>
          </a:p>
        </p:txBody>
      </p:sp>
      <p:sp>
        <p:nvSpPr>
          <p:cNvPr id="312" name="PlaceHolder 2"/>
          <p:cNvSpPr>
            <a:spLocks noGrp="1"/>
          </p:cNvSpPr>
          <p:nvPr>
            <p:ph/>
          </p:nvPr>
        </p:nvSpPr>
        <p:spPr>
          <a:xfrm>
            <a:off x="838080" y="761760"/>
            <a:ext cx="7848720" cy="6103800"/>
          </a:xfrm>
          <a:prstGeom prst="rect">
            <a:avLst/>
          </a:prstGeom>
          <a:noFill/>
          <a:ln w="0">
            <a:noFill/>
          </a:ln>
        </p:spPr>
        <p:txBody>
          <a:bodyPr lIns="92160" rIns="92160" tIns="46080" bIns="46080" anchor="t">
            <a:normAutofit/>
          </a:bodyPr>
          <a:p>
            <a:pPr marL="228600" indent="-228600">
              <a:lnSpc>
                <a:spcPct val="88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Eeldame lihtsalt, et:</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sin tahab teha käiku, mis annab kõige suurema headuse numbriga seis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stane tahab teha käiku, mis annab kõige väiksema headuse numbriga seisu.</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Seega:</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gast seisust valib masin käigu, mis on maksimum-headusega (masinale).</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gast seisust valib vastane käigu, mis on miinimum-headusega (masinale).</a:t>
            </a:r>
            <a:endParaRPr b="0" lang="en-US" sz="1800" spc="-1" strike="noStrike">
              <a:solidFill>
                <a:srgbClr val="000000"/>
              </a:solidFill>
              <a:latin typeface="Bitstream Vera Sans"/>
            </a:endParaRPr>
          </a:p>
          <a:p>
            <a:pPr lvl="1" marL="50976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Idee: </a:t>
            </a:r>
            <a:endParaRPr b="1" lang="en-US" sz="20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Vaatame käikude puud sügavuseni N (näiteks N=3)</a:t>
            </a:r>
            <a:endParaRPr b="0" lang="en-US" sz="18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õige alumistel seisudel arvutame lihtsalt headuse välja</a:t>
            </a:r>
            <a:endParaRPr b="0" lang="en-US" sz="18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järel “tõstame” headuse numbreid ülespoole!</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3" name=""/>
          <p:cNvGrpSpPr/>
          <p:nvPr/>
        </p:nvGrpSpPr>
        <p:grpSpPr>
          <a:xfrm>
            <a:off x="914400" y="299520"/>
            <a:ext cx="7772400" cy="311400"/>
            <a:chOff x="914400" y="299520"/>
            <a:chExt cx="7772400" cy="311400"/>
          </a:xfrm>
        </p:grpSpPr>
        <p:sp>
          <p:nvSpPr>
            <p:cNvPr id="3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nimax algoritm</a:t>
            </a:r>
            <a:br>
              <a:rPr sz="1600"/>
            </a:br>
            <a:endParaRPr b="1" lang="en-US" sz="2400" spc="-1" strike="noStrike">
              <a:solidFill>
                <a:srgbClr val="000099"/>
              </a:solidFill>
              <a:latin typeface="Bitstream Vera Sans"/>
            </a:endParaRPr>
          </a:p>
        </p:txBody>
      </p:sp>
      <p:sp>
        <p:nvSpPr>
          <p:cNvPr id="3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18" name=""/>
          <p:cNvGrpSpPr/>
          <p:nvPr/>
        </p:nvGrpSpPr>
        <p:grpSpPr>
          <a:xfrm>
            <a:off x="914400" y="299520"/>
            <a:ext cx="7772400" cy="311400"/>
            <a:chOff x="914400" y="299520"/>
            <a:chExt cx="7772400" cy="311400"/>
          </a:xfrm>
        </p:grpSpPr>
        <p:sp>
          <p:nvSpPr>
            <p:cNvPr id="3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1" name="" descr=""/>
          <p:cNvPicPr/>
          <p:nvPr/>
        </p:nvPicPr>
        <p:blipFill>
          <a:blip r:embed="rId1"/>
          <a:stretch/>
        </p:blipFill>
        <p:spPr>
          <a:xfrm>
            <a:off x="609480" y="990720"/>
            <a:ext cx="8153640" cy="426708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 heaks programmi saab?</a:t>
            </a:r>
            <a:endParaRPr b="1" lang="en-US" sz="2400" spc="-1" strike="noStrike">
              <a:solidFill>
                <a:srgbClr val="000099"/>
              </a:solidFill>
              <a:latin typeface="Bitstream Vera Sans"/>
            </a:endParaRPr>
          </a:p>
        </p:txBody>
      </p:sp>
      <p:sp>
        <p:nvSpPr>
          <p:cNvPr id="323" name="PlaceHolder 2"/>
          <p:cNvSpPr>
            <a:spLocks noGrp="1"/>
          </p:cNvSpPr>
          <p:nvPr>
            <p:ph/>
          </p:nvPr>
        </p:nvSpPr>
        <p:spPr>
          <a:xfrm>
            <a:off x="838080" y="990360"/>
            <a:ext cx="7848720" cy="813276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da sügavamat puud masin läbi jõuab vaadata, seda täpsemini ta käiku oskab valida.</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uu läheb kiiresti väga suureks!</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ales ca 30 käiku ühes seisus.</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simesel tasemel käike 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isel tasemel käike 30*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lmandal tasemel käike 30*30*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ndal tasemel käike 30 astmes N.</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iekümnendal  tasemel oleks käike ca 30 astmes 50. See on rohkem, kui elementaarosakesi universumis!</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24" name=""/>
          <p:cNvGrpSpPr/>
          <p:nvPr/>
        </p:nvGrpSpPr>
        <p:grpSpPr>
          <a:xfrm>
            <a:off x="838080" y="376200"/>
            <a:ext cx="7770960" cy="311040"/>
            <a:chOff x="838080" y="376200"/>
            <a:chExt cx="7770960" cy="311040"/>
          </a:xfrm>
        </p:grpSpPr>
        <p:sp>
          <p:nvSpPr>
            <p:cNvPr id="32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Umbes nii: teadmised ja kiirus ja mängu headus</a:t>
            </a:r>
            <a:br>
              <a:rPr sz="1600"/>
            </a:b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29" name=""/>
          <p:cNvGrpSpPr/>
          <p:nvPr/>
        </p:nvGrpSpPr>
        <p:grpSpPr>
          <a:xfrm>
            <a:off x="914400" y="299520"/>
            <a:ext cx="7772400" cy="311400"/>
            <a:chOff x="914400" y="299520"/>
            <a:chExt cx="7772400" cy="311400"/>
          </a:xfrm>
        </p:grpSpPr>
        <p:sp>
          <p:nvSpPr>
            <p:cNvPr id="3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2" name="" descr=""/>
          <p:cNvPicPr/>
          <p:nvPr/>
        </p:nvPicPr>
        <p:blipFill>
          <a:blip r:embed="rId1"/>
          <a:stretch/>
        </p:blipFill>
        <p:spPr>
          <a:xfrm>
            <a:off x="228600" y="1066680"/>
            <a:ext cx="8381880" cy="4948200"/>
          </a:xfrm>
          <a:prstGeom prst="rect">
            <a:avLst/>
          </a:prstGeom>
          <a:ln w="0">
            <a:noFill/>
          </a:ln>
        </p:spPr>
      </p:pic>
      <p:sp>
        <p:nvSpPr>
          <p:cNvPr id="333" name=""/>
          <p:cNvSpPr/>
          <p:nvPr/>
        </p:nvSpPr>
        <p:spPr>
          <a:xfrm>
            <a:off x="290880" y="4876920"/>
            <a:ext cx="1080720" cy="1191960"/>
          </a:xfrm>
          <a:custGeom>
            <a:avLst/>
            <a:gdLst>
              <a:gd name="textAreaLeft" fmla="*/ 360 w 1080720"/>
              <a:gd name="textAreaRight" fmla="*/ 1080360 w 1080720"/>
              <a:gd name="textAreaTop" fmla="*/ 360 h 1191960"/>
              <a:gd name="textAreaBottom" fmla="*/ 1191600 h 1191960"/>
            </a:gdLst>
            <a:ahLst/>
            <a:rect l="textAreaLeft" t="textAreaTop" r="textAreaRight" b="textAreaBottom"/>
            <a:pathLst>
              <a:path w="21600" h="23823">
                <a:moveTo>
                  <a:pt x="31" y="0"/>
                </a:moveTo>
                <a:arcTo wR="31" hR="31" stAng="16200000" swAng="-5400000"/>
                <a:lnTo>
                  <a:pt x="0" y="23792"/>
                </a:lnTo>
                <a:arcTo wR="31" hR="31" stAng="10800000" swAng="-5400000"/>
                <a:lnTo>
                  <a:pt x="21569" y="23823"/>
                </a:lnTo>
                <a:arcTo wR="31" hR="31" stAng="5400000" swAng="-5400000"/>
                <a:lnTo>
                  <a:pt x="21600" y="31"/>
                </a:lnTo>
                <a:arcTo wR="31" hR="31"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Seis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hindaj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headus</a:t>
            </a:r>
            <a:endParaRPr b="0" lang="en-US" sz="2400" spc="-1" strike="noStrike">
              <a:solidFill>
                <a:srgbClr val="000000"/>
              </a:solidFill>
              <a:latin typeface="Times New Roman"/>
            </a:endParaRPr>
          </a:p>
        </p:txBody>
      </p:sp>
      <p:sp>
        <p:nvSpPr>
          <p:cNvPr id="334" name=""/>
          <p:cNvSpPr/>
          <p:nvPr/>
        </p:nvSpPr>
        <p:spPr>
          <a:xfrm>
            <a:off x="2438280" y="60958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ui suure puu jõuab läbi vaadata</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programmi parandada?</a:t>
            </a:r>
            <a:endParaRPr b="1" lang="en-US" sz="2400" spc="-1" strike="noStrike">
              <a:solidFill>
                <a:srgbClr val="000099"/>
              </a:solidFill>
              <a:latin typeface="Bitstream Vera Sans"/>
            </a:endParaRPr>
          </a:p>
        </p:txBody>
      </p:sp>
      <p:sp>
        <p:nvSpPr>
          <p:cNvPr id="336" name="PlaceHolder 2"/>
          <p:cNvSpPr>
            <a:spLocks noGrp="1"/>
          </p:cNvSpPr>
          <p:nvPr>
            <p:ph/>
          </p:nvPr>
        </p:nvSpPr>
        <p:spPr>
          <a:xfrm>
            <a:off x="838080" y="990360"/>
            <a:ext cx="7848720" cy="6530760"/>
          </a:xfrm>
          <a:prstGeom prst="rect">
            <a:avLst/>
          </a:prstGeom>
          <a:noFill/>
          <a:ln w="0">
            <a:noFill/>
          </a:ln>
        </p:spPr>
        <p:txBody>
          <a:bodyPr lIns="92160" rIns="92160" tIns="46080" bIns="46080" anchor="t">
            <a:normAutofit/>
          </a:bodyPr>
          <a:p>
            <a:pPr marL="338040" indent="0">
              <a:lnSpc>
                <a:spcPts val="216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i ole ühte head lahendust. On palju erinevaid nõks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äiteks: </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me seisu hindaja paremaks (programmi “targemaks”).</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ga siis läheb ta aeglasemaks ka.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ga jõuame vähem käike läbi vaadata.</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namik nõkse on seotud käikude puu vähendamisega: ei ole vaja kogu puud läbi vaadata.</a:t>
            </a:r>
            <a:endParaRPr b="1" lang="en-US" sz="20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37" name=""/>
          <p:cNvGrpSpPr/>
          <p:nvPr/>
        </p:nvGrpSpPr>
        <p:grpSpPr>
          <a:xfrm>
            <a:off x="838080" y="376200"/>
            <a:ext cx="7770960" cy="311040"/>
            <a:chOff x="838080" y="376200"/>
            <a:chExt cx="7770960" cy="311040"/>
          </a:xfrm>
        </p:grpSpPr>
        <p:sp>
          <p:nvSpPr>
            <p:cNvPr id="33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uti vs sügavuti otsing</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990720"/>
            <a:ext cx="7848720" cy="512280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aks võimalust:</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puu läbi kiht-kihilt</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puu läbi sügavuti, minnes algul vasakul maksimaalse sügavuseni</a:t>
            </a:r>
            <a:endParaRPr b="0" lang="en-US" sz="1800" spc="-1" strike="noStrike">
              <a:solidFill>
                <a:srgbClr val="000000"/>
              </a:solidFill>
              <a:latin typeface="Bitstream Vera Sans"/>
            </a:endParaRPr>
          </a:p>
          <a:p>
            <a:pPr marL="338040" indent="0">
              <a:lnSpc>
                <a:spcPct val="12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elistatakse sügavuti otsingut!</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lu vaja palju vähe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ud eelised ka</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42" name=""/>
          <p:cNvGrpSpPr/>
          <p:nvPr/>
        </p:nvGrpSpPr>
        <p:grpSpPr>
          <a:xfrm>
            <a:off x="838080" y="376200"/>
            <a:ext cx="7770960" cy="311040"/>
            <a:chOff x="838080" y="376200"/>
            <a:chExt cx="7770960" cy="311040"/>
          </a:xfrm>
        </p:grpSpPr>
        <p:sp>
          <p:nvSpPr>
            <p:cNvPr id="34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5" name="" descr=""/>
          <p:cNvPicPr/>
          <p:nvPr/>
        </p:nvPicPr>
        <p:blipFill>
          <a:blip r:embed="rId1"/>
          <a:stretch/>
        </p:blipFill>
        <p:spPr>
          <a:xfrm>
            <a:off x="5638680" y="2362320"/>
            <a:ext cx="3276720" cy="1714320"/>
          </a:xfrm>
          <a:prstGeom prst="rect">
            <a:avLst/>
          </a:prstGeom>
          <a:ln w="0">
            <a:noFill/>
          </a:ln>
        </p:spPr>
      </p:pic>
      <p:pic>
        <p:nvPicPr>
          <p:cNvPr id="346" name="" descr=""/>
          <p:cNvPicPr/>
          <p:nvPr/>
        </p:nvPicPr>
        <p:blipFill>
          <a:blip r:embed="rId2"/>
          <a:stretch/>
        </p:blipFill>
        <p:spPr>
          <a:xfrm>
            <a:off x="5638680" y="4572000"/>
            <a:ext cx="3276720" cy="1714680"/>
          </a:xfrm>
          <a:prstGeom prst="rect">
            <a:avLst/>
          </a:prstGeom>
          <a:ln w="0">
            <a:noFill/>
          </a:ln>
        </p:spPr>
      </p:pic>
      <p:sp>
        <p:nvSpPr>
          <p:cNvPr id="347" name=""/>
          <p:cNvSpPr/>
          <p:nvPr/>
        </p:nvSpPr>
        <p:spPr>
          <a:xfrm>
            <a:off x="6172200" y="2895480"/>
            <a:ext cx="2363760" cy="457200"/>
          </a:xfrm>
          <a:custGeom>
            <a:avLst/>
            <a:gdLst/>
            <a:ahLst/>
            <a:rect l="l" t="t" r="r" b="b"/>
            <a:pathLst>
              <a:path w="6564" h="1271">
                <a:moveTo>
                  <a:pt x="0" y="149"/>
                </a:moveTo>
                <a:cubicBezTo>
                  <a:pt x="0" y="74"/>
                  <a:pt x="74" y="0"/>
                  <a:pt x="149" y="0"/>
                </a:cubicBezTo>
                <a:lnTo>
                  <a:pt x="6413" y="0"/>
                </a:lnTo>
                <a:cubicBezTo>
                  <a:pt x="6488" y="0"/>
                  <a:pt x="6563" y="74"/>
                  <a:pt x="6563" y="149"/>
                </a:cubicBezTo>
                <a:lnTo>
                  <a:pt x="6563" y="1121"/>
                </a:lnTo>
                <a:cubicBezTo>
                  <a:pt x="6563" y="1195"/>
                  <a:pt x="6488" y="1270"/>
                  <a:pt x="6413" y="1270"/>
                </a:cubicBezTo>
                <a:lnTo>
                  <a:pt x="149" y="1270"/>
                </a:lnTo>
                <a:cubicBezTo>
                  <a:pt x="74" y="1270"/>
                  <a:pt x="0" y="1195"/>
                  <a:pt x="0" y="1121"/>
                </a:cubicBezTo>
                <a:lnTo>
                  <a:pt x="0" y="149"/>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a:off x="5715000" y="3505320"/>
            <a:ext cx="3278160" cy="609480"/>
          </a:xfrm>
          <a:custGeom>
            <a:avLst/>
            <a:gdLst/>
            <a:ahLst/>
            <a:rect l="l" t="t" r="r" b="b"/>
            <a:pathLst>
              <a:path w="9104" h="1695">
                <a:moveTo>
                  <a:pt x="0" y="199"/>
                </a:moveTo>
                <a:cubicBezTo>
                  <a:pt x="0" y="99"/>
                  <a:pt x="99" y="0"/>
                  <a:pt x="199" y="0"/>
                </a:cubicBezTo>
                <a:lnTo>
                  <a:pt x="8903" y="0"/>
                </a:lnTo>
                <a:cubicBezTo>
                  <a:pt x="9003" y="0"/>
                  <a:pt x="9103" y="99"/>
                  <a:pt x="9103" y="199"/>
                </a:cubicBezTo>
                <a:lnTo>
                  <a:pt x="9103" y="1494"/>
                </a:lnTo>
                <a:cubicBezTo>
                  <a:pt x="9103" y="1594"/>
                  <a:pt x="9003" y="1694"/>
                  <a:pt x="8903" y="1694"/>
                </a:cubicBezTo>
                <a:lnTo>
                  <a:pt x="199" y="1694"/>
                </a:lnTo>
                <a:cubicBezTo>
                  <a:pt x="99" y="1694"/>
                  <a:pt x="0" y="1594"/>
                  <a:pt x="0" y="1494"/>
                </a:cubicBezTo>
                <a:lnTo>
                  <a:pt x="0" y="199"/>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flipH="1">
            <a:off x="6319800" y="4724280"/>
            <a:ext cx="695520" cy="3812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
          <p:cNvSpPr/>
          <p:nvPr/>
        </p:nvSpPr>
        <p:spPr>
          <a:xfrm flipH="1">
            <a:off x="5785920" y="5334120"/>
            <a:ext cx="466920" cy="685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H="1">
            <a:off x="6396120" y="5562720"/>
            <a:ext cx="85680" cy="5331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
          <p:cNvSpPr/>
          <p:nvPr/>
        </p:nvSpPr>
        <p:spPr>
          <a:xfrm>
            <a:off x="4419720" y="1523880"/>
            <a:ext cx="106668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a:off x="3352680" y="2362320"/>
            <a:ext cx="2210040" cy="22096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Üks esimesi universaalseid meetodeid: alpha-beta</a:t>
            </a:r>
            <a:br>
              <a:rPr sz="1600"/>
            </a:b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56" name=""/>
          <p:cNvGrpSpPr/>
          <p:nvPr/>
        </p:nvGrpSpPr>
        <p:grpSpPr>
          <a:xfrm>
            <a:off x="914400" y="299520"/>
            <a:ext cx="7772400" cy="311400"/>
            <a:chOff x="914400" y="299520"/>
            <a:chExt cx="7772400" cy="311400"/>
          </a:xfrm>
        </p:grpSpPr>
        <p:sp>
          <p:nvSpPr>
            <p:cNvPr id="3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aphicFrame>
        <p:nvGraphicFramePr>
          <p:cNvPr id="359" name=""/>
          <p:cNvGraphicFramePr/>
          <p:nvPr/>
        </p:nvGraphicFramePr>
        <p:xfrm>
          <a:off x="838080" y="2362320"/>
          <a:ext cx="8305920" cy="4038480"/>
        </p:xfrm>
        <a:graphic>
          <a:graphicData uri="http://schemas.openxmlformats.org/presentationml/2006/ole">
            <p:oleObj r:id="rId1" spid="">
              <p:embed/>
              <p:pic>
                <p:nvPicPr>
                  <p:cNvPr id="360" name="" descr=""/>
                  <p:cNvPicPr/>
                  <p:nvPr/>
                </p:nvPicPr>
                <p:blipFill>
                  <a:blip r:embed="rId2"/>
                  <a:stretch/>
                </p:blipFill>
                <p:spPr>
                  <a:xfrm>
                    <a:off x="838080" y="2362320"/>
                    <a:ext cx="8305920" cy="4038480"/>
                  </a:xfrm>
                  <a:prstGeom prst="rect">
                    <a:avLst/>
                  </a:prstGeom>
                  <a:ln w="0">
                    <a:noFill/>
                  </a:ln>
                </p:spPr>
              </p:pic>
            </p:oleObj>
          </a:graphicData>
        </a:graphic>
      </p:graphicFrame>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odinäiteid: rekursiivsed minimax ja alpha-beta</a:t>
            </a:r>
            <a:endParaRPr b="1" lang="en-US" sz="2400" spc="-1" strike="noStrike">
              <a:solidFill>
                <a:srgbClr val="000099"/>
              </a:solidFill>
              <a:latin typeface="Bitstream Vera Sans"/>
            </a:endParaRPr>
          </a:p>
        </p:txBody>
      </p:sp>
      <p:sp>
        <p:nvSpPr>
          <p:cNvPr id="362" name="PlaceHolder 2"/>
          <p:cNvSpPr>
            <a:spLocks noGrp="1"/>
          </p:cNvSpPr>
          <p:nvPr>
            <p:ph/>
          </p:nvPr>
        </p:nvSpPr>
        <p:spPr>
          <a:xfrm>
            <a:off x="838080" y="761760"/>
            <a:ext cx="7848720" cy="6745320"/>
          </a:xfrm>
          <a:prstGeom prst="rect">
            <a:avLst/>
          </a:prstGeom>
          <a:noFill/>
          <a:ln w="0">
            <a:noFill/>
          </a:ln>
        </p:spPr>
        <p:txBody>
          <a:bodyPr lIns="92160" rIns="92160" tIns="46080" bIns="46080" anchor="t">
            <a:normAutofit/>
          </a:bodyPr>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int NegaMax (pos, depth)</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if (depth == 0) return Evaluate(pos);</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best = -INFINITY;</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succ = Successors(pos);</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while (not Empty(succ))</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pos = RemoveOne(succ);</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value = -NegaMax(pos, depth-1);</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if (value &gt; best) best = value;</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return best;</a:t>
            </a:r>
            <a:endParaRPr b="1" lang="en-US" sz="1600" spc="-1" strike="noStrike">
              <a:solidFill>
                <a:srgbClr val="000000"/>
              </a:solidFill>
              <a:latin typeface="Bitstream Vera Sans"/>
            </a:endParaRPr>
          </a:p>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Times New Roman"/>
              </a:rPr>
              <a:t>}</a:t>
            </a: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int AlphaBeta (pos, depth, alpha, beta)</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if (depth == 0) return Evaluate(pos);</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best = -INFINITY;</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succ = Successors(pos);</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while (not Empty(succ) </a:t>
            </a:r>
            <a:r>
              <a:rPr b="0" lang="en-GB" sz="1400" spc="-1" strike="noStrike">
                <a:solidFill>
                  <a:srgbClr val="ff0000"/>
                </a:solidFill>
                <a:latin typeface="Courier New"/>
                <a:ea typeface="Arial Unicode MS"/>
              </a:rPr>
              <a:t>&amp;&amp; best &lt; beta</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pos = RemoveOne(succ);</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ff0000"/>
                </a:solidFill>
                <a:latin typeface="Courier New"/>
                <a:ea typeface="Arial Unicode MS"/>
              </a:rPr>
              <a:t>if (best &gt; alpha) alpha = bes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ff0000"/>
                </a:solidFill>
                <a:latin typeface="Courier New"/>
                <a:ea typeface="Arial Unicode MS"/>
              </a:rPr>
              <a:t>value = -AlphaBeta(pos, depth-1, -beta, -alpha);</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if (value &gt; best) best = value;</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return best;</a:t>
            </a:r>
            <a:endParaRPr b="1" lang="en-US" sz="1400" spc="-1" strike="noStrike">
              <a:solidFill>
                <a:srgbClr val="000000"/>
              </a:solidFill>
              <a:latin typeface="Bitstream Vera Sans"/>
            </a:endParaRPr>
          </a:p>
          <a:p>
            <a:pPr marL="228600" indent="0">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Times New Roman"/>
              </a:rPr>
              <a:t>}</a:t>
            </a:r>
            <a:r>
              <a:rPr b="0" lang="en-GB" sz="1400" spc="-1" strike="noStrike">
                <a:solidFill>
                  <a:srgbClr val="000000"/>
                </a:solidFill>
                <a:latin typeface="Courier New"/>
              </a:rPr>
              <a:t> </a:t>
            </a:r>
            <a:endParaRPr b="1" lang="en-US" sz="1400" spc="-1" strike="noStrike">
              <a:solidFill>
                <a:srgbClr val="000000"/>
              </a:solidFill>
              <a:latin typeface="Bitstream Vera Sans"/>
            </a:endParaRPr>
          </a:p>
          <a:p>
            <a:pPr marL="228600" indent="0">
              <a:lnSpc>
                <a:spcPct val="8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3" name=""/>
          <p:cNvGrpSpPr/>
          <p:nvPr/>
        </p:nvGrpSpPr>
        <p:grpSpPr>
          <a:xfrm>
            <a:off x="914400" y="299520"/>
            <a:ext cx="7772400" cy="311400"/>
            <a:chOff x="914400" y="299520"/>
            <a:chExt cx="7772400" cy="311400"/>
          </a:xfrm>
        </p:grpSpPr>
        <p:sp>
          <p:nvSpPr>
            <p:cNvPr id="3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oteerimise nõks otsingu kiirendamiseks</a:t>
            </a:r>
            <a:endParaRPr b="1" lang="en-US" sz="2400" spc="-1" strike="noStrike">
              <a:solidFill>
                <a:srgbClr val="000099"/>
              </a:solidFill>
              <a:latin typeface="Bitstream Vera Sans"/>
            </a:endParaRPr>
          </a:p>
        </p:txBody>
      </p:sp>
      <p:sp>
        <p:nvSpPr>
          <p:cNvPr id="367" name="PlaceHolder 2"/>
          <p:cNvSpPr>
            <a:spLocks noGrp="1"/>
          </p:cNvSpPr>
          <p:nvPr>
            <p:ph/>
          </p:nvPr>
        </p:nvSpPr>
        <p:spPr>
          <a:xfrm>
            <a:off x="838080" y="990360"/>
            <a:ext cx="7848720" cy="80420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orteerida variandid seisust X enne otsingut ära: alustada tõenäoliselt paremate käikude proovimisega.</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endab tohutult alpha-beta efekti!</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orteerida?</a:t>
            </a:r>
            <a:endParaRPr b="0" lang="en-US" sz="1800" spc="-1" strike="noStrike">
              <a:solidFill>
                <a:srgbClr val="000000"/>
              </a:solidFill>
              <a:latin typeface="Bitstream Vera Sans"/>
            </a:endParaRPr>
          </a:p>
          <a:p>
            <a:pPr lvl="1" marL="73836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Iteratiivne süvenemine. Teem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gul täisotsingu sügavuseni 2,</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iis uue täisotsingu sügavuseni 4,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iis uue täisotsingu sügavuseni 6,</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ord kasutame eelmise otsingu tulemust sorteerimiseks!</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68" name=""/>
          <p:cNvGrpSpPr/>
          <p:nvPr/>
        </p:nvGrpSpPr>
        <p:grpSpPr>
          <a:xfrm>
            <a:off x="838080" y="376200"/>
            <a:ext cx="7770960" cy="311040"/>
            <a:chOff x="838080" y="376200"/>
            <a:chExt cx="7770960" cy="311040"/>
          </a:xfrm>
        </p:grpSpPr>
        <p:sp>
          <p:nvSpPr>
            <p:cNvPr id="36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uud standardnõksud</a:t>
            </a:r>
            <a:endParaRPr b="1" lang="en-US" sz="2400" spc="-1" strike="noStrike">
              <a:solidFill>
                <a:srgbClr val="000099"/>
              </a:solidFill>
              <a:latin typeface="Bitstream Vera Sans"/>
            </a:endParaRPr>
          </a:p>
        </p:txBody>
      </p:sp>
      <p:sp>
        <p:nvSpPr>
          <p:cNvPr id="372" name="PlaceHolder 2"/>
          <p:cNvSpPr>
            <a:spLocks noGrp="1"/>
          </p:cNvSpPr>
          <p:nvPr>
            <p:ph/>
          </p:nvPr>
        </p:nvSpPr>
        <p:spPr>
          <a:xfrm>
            <a:off x="838080" y="990720"/>
            <a:ext cx="7848720" cy="78278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1" lang="en-GB" sz="1800" spc="-1" strike="noStrike">
                <a:solidFill>
                  <a:srgbClr val="000000"/>
                </a:solidFill>
                <a:latin typeface="Bitstream Vera Sans"/>
              </a:rPr>
              <a:t>Killer moves</a:t>
            </a:r>
            <a:r>
              <a:rPr b="0" lang="en-GB" sz="1800" spc="-1" strike="noStrike">
                <a:solidFill>
                  <a:srgbClr val="000000"/>
                </a:solidFill>
                <a:latin typeface="Bitstream Vera Sans"/>
              </a:rPr>
              <a:t>”: jätame otsides meelde eriti head käigud:</a:t>
            </a:r>
            <a:endParaRPr b="1"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ii masinal kui vastasel</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ovime kõigepealt varasemast meelde jäetud eriti häid käike</a:t>
            </a:r>
            <a:endParaRPr b="0" lang="en-US" sz="18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1" lang="en-GB" sz="1800" spc="-1" strike="noStrike">
                <a:solidFill>
                  <a:srgbClr val="000000"/>
                </a:solidFill>
                <a:latin typeface="Bitstream Vera Sans"/>
              </a:rPr>
              <a:t>Quiescence search</a:t>
            </a:r>
            <a:r>
              <a:rPr b="0" lang="en-GB" sz="1800" spc="-1" strike="noStrike">
                <a:solidFill>
                  <a:srgbClr val="000000"/>
                </a:solidFill>
                <a:latin typeface="Bitstream Vera Sans"/>
              </a:rPr>
              <a:t>”: mõnda haru otsitakse sügavamalt:</a:t>
            </a:r>
            <a:endParaRPr b="1"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bastabiilses seisus otsime sügavamalt</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biilses seisus otsime vähem sügavalt</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lõpuni kõik vahetused ja löögid</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t>
            </a:r>
            <a:r>
              <a:rPr b="1" lang="en-GB" sz="1800" spc="-1" strike="noStrike">
                <a:solidFill>
                  <a:srgbClr val="000000"/>
                </a:solidFill>
                <a:latin typeface="Bitstream Vera Sans"/>
              </a:rPr>
              <a:t>Null-Move”</a:t>
            </a:r>
            <a:r>
              <a:rPr b="0" lang="en-GB" sz="1800" spc="-1" strike="noStrike">
                <a:solidFill>
                  <a:srgbClr val="000000"/>
                </a:solidFill>
                <a:latin typeface="Bitstream Vera Sans"/>
              </a:rPr>
              <a:t>: mis siis, kui vastane saaks kaks käiku järjest? </a:t>
            </a:r>
            <a:endParaRPr b="1"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ovime nii, et vastane saab kaks käiku järjest</a:t>
            </a:r>
            <a:endParaRPr b="0"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on meile OK tulemus, siis see on positiivne faktor</a:t>
            </a:r>
            <a:endParaRPr b="0"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on meile halb tulemus, jätame meelde “killer move”</a:t>
            </a:r>
            <a:endParaRPr b="0" lang="en-US" sz="1800" spc="-1" strike="noStrike">
              <a:solidFill>
                <a:srgbClr val="000000"/>
              </a:solidFill>
              <a:latin typeface="Bitstream Vera Sans"/>
            </a:endParaRPr>
          </a:p>
          <a:p>
            <a:pPr marL="3380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3" name=""/>
          <p:cNvGrpSpPr/>
          <p:nvPr/>
        </p:nvGrpSpPr>
        <p:grpSpPr>
          <a:xfrm>
            <a:off x="838080" y="376200"/>
            <a:ext cx="7770960" cy="311040"/>
            <a:chOff x="838080" y="376200"/>
            <a:chExt cx="7770960" cy="311040"/>
          </a:xfrm>
        </p:grpSpPr>
        <p:sp>
          <p:nvSpPr>
            <p:cNvPr id="37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õrvalefektid tulemustena</a:t>
            </a:r>
            <a:br>
              <a:rPr sz="1600"/>
            </a:br>
            <a:endParaRPr b="1" lang="en-US" sz="2400" spc="-1" strike="noStrike">
              <a:solidFill>
                <a:srgbClr val="000099"/>
              </a:solidFill>
              <a:latin typeface="Bitstream Vera Sans"/>
            </a:endParaRPr>
          </a:p>
        </p:txBody>
      </p:sp>
      <p:sp>
        <p:nvSpPr>
          <p:cNvPr id="109" name="PlaceHolder 2"/>
          <p:cNvSpPr>
            <a:spLocks noGrp="1"/>
          </p:cNvSpPr>
          <p:nvPr>
            <p:ph/>
          </p:nvPr>
        </p:nvSpPr>
        <p:spPr>
          <a:xfrm>
            <a:off x="838080" y="761760"/>
            <a:ext cx="7848720" cy="690084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uuringud on andnud hulgaliselt algoritme ja meetodeid ja programmeerimiskeeli, mida rakendatakse praktikas mitte-tehisintellekti-ülesannete jaoks. Näiteks:</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Paljud otsimisalgoritmi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Paljud optimeerimisalgoritmi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ormaalsete keelte süntaksianalüüs (kõigis kompilaatorites)</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unktsionaalsed ja loogilised programmeerimiskeele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Objekt-orienteeritud programmeerimin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Lausearvutuse valemite ja analoogiliste ülesannete efektiivne lahendamin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 jne</a:t>
            </a:r>
            <a:endParaRPr b="0" lang="en-US" sz="16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iipea, kui mingit seni väga rasket ülesannet osatakse programmiga efektiivselt lahendada, nihkub ülesanne tehisintellekti-uuringute vaateväljast minem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uuringud tegelevad seepärast  reeglina ülesannetega, mida veel eriti hästi programmide abil lahendada ei osat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10" name=""/>
          <p:cNvGrpSpPr/>
          <p:nvPr/>
        </p:nvGrpSpPr>
        <p:grpSpPr>
          <a:xfrm>
            <a:off x="914400" y="299520"/>
            <a:ext cx="7772400" cy="311400"/>
            <a:chOff x="914400" y="299520"/>
            <a:chExt cx="7772400" cy="311400"/>
          </a:xfrm>
        </p:grpSpPr>
        <p:sp>
          <p:nvSpPr>
            <p:cNvPr id="1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uidas mõjub?</a:t>
            </a:r>
            <a:br>
              <a:rPr sz="1600"/>
            </a:br>
            <a:endParaRPr b="1" lang="en-US" sz="2400" spc="-1" strike="noStrike">
              <a:solidFill>
                <a:srgbClr val="000099"/>
              </a:solidFill>
              <a:latin typeface="Bitstream Vera Sans"/>
            </a:endParaRPr>
          </a:p>
        </p:txBody>
      </p:sp>
      <p:sp>
        <p:nvSpPr>
          <p:cNvPr id="377" name="PlaceHolder 2"/>
          <p:cNvSpPr>
            <a:spLocks noGrp="1"/>
          </p:cNvSpPr>
          <p:nvPr>
            <p:ph/>
          </p:nvPr>
        </p:nvSpPr>
        <p:spPr>
          <a:xfrm>
            <a:off x="838080" y="762120"/>
            <a:ext cx="7848720" cy="547056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da sügavam puu, seda suurem mõju. Näite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äikude puu sügavus vii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ea typeface="Times New Roman"/>
              </a:rPr>
              <a:t>MiniMax</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hindab</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10</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541</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242</a:t>
            </a:r>
            <a:r>
              <a:rPr b="0" lang="en-GB" sz="1600" spc="-1" strike="noStrike">
                <a:solidFill>
                  <a:srgbClr val="000000"/>
                </a:solidFill>
                <a:latin typeface="Bitstream Vera Sans"/>
              </a:rPr>
              <a:t>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lpha-Beta: hindab          1,037,209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B + “killer moves”:           530,587 seisu.</a:t>
            </a:r>
            <a:endParaRPr b="0" lang="en-US" sz="16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äikude   puu sügavus seitse: </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ea typeface="Times New Roman"/>
              </a:rPr>
              <a:t>MiniMax</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hindab</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ca       8,100,000,000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lpha-Beta: hindab           162,662,568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B + “killer moves”:           46,455,262 seisu.</a:t>
            </a:r>
            <a:endParaRPr b="0" lang="en-US" sz="1600" spc="-1" strike="noStrike">
              <a:solidFill>
                <a:srgbClr val="000000"/>
              </a:solidFill>
              <a:latin typeface="Bitstream Vera Sans"/>
            </a:endParaRPr>
          </a:p>
          <a:p>
            <a:pPr lvl="1" marL="509760" indent="0">
              <a:lnSpc>
                <a:spcPct val="9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8" name=""/>
          <p:cNvGrpSpPr/>
          <p:nvPr/>
        </p:nvGrpSpPr>
        <p:grpSpPr>
          <a:xfrm>
            <a:off x="914400" y="299520"/>
            <a:ext cx="7772400" cy="311400"/>
            <a:chOff x="914400" y="299520"/>
            <a:chExt cx="7772400" cy="311400"/>
          </a:xfrm>
        </p:grpSpPr>
        <p:sp>
          <p:nvSpPr>
            <p:cNvPr id="3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äiendav idee: lõppmängude andmebaasid</a:t>
            </a:r>
            <a:br>
              <a:rPr sz="1600"/>
            </a:br>
            <a:endParaRPr b="1" lang="en-US" sz="2400" spc="-1" strike="noStrike">
              <a:solidFill>
                <a:srgbClr val="000099"/>
              </a:solidFill>
              <a:latin typeface="Bitstream Vera Sans"/>
            </a:endParaRPr>
          </a:p>
        </p:txBody>
      </p:sp>
      <p:sp>
        <p:nvSpPr>
          <p:cNvPr id="382" name="PlaceHolder 2"/>
          <p:cNvSpPr>
            <a:spLocks noGrp="1"/>
          </p:cNvSpPr>
          <p:nvPr>
            <p:ph/>
          </p:nvPr>
        </p:nvSpPr>
        <p:spPr>
          <a:xfrm>
            <a:off x="838080" y="761760"/>
            <a:ext cx="7848720" cy="60483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Idee: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hitame hiiglasliku lõppmängu-seisude andmebaasi</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gal lõppmängu-seisul on andmebaasis öeldud täpne “headus” (võit, viik, kaot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hitamiseks: kõigepealt ühe nupuga lõppmängud, siis kahe nupuga lõppmängud, siis kolme nupuga lõppmängud jne.</a:t>
            </a: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õigepealt tehti seda 8x8 inglise kabes: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Chinook</a:t>
            </a: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Jonathan Schaeffer, Robert Blake,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Paul Lu and</a:t>
            </a: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 Martin Bryan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 </a:t>
            </a:r>
            <a:r>
              <a:rPr b="0" lang="en-GB" sz="1800" spc="-1" strike="noStrike">
                <a:solidFill>
                  <a:srgbClr val="000000"/>
                </a:solidFill>
                <a:latin typeface="Bitstream Vera Sans"/>
                <a:ea typeface="ＭＳ Ｐゴシック"/>
              </a:rPr>
              <a:t>University of Albert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igi seisude andmebaas, kus on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0 või vähem nuppu</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ügavad otsingud jõuavad tihti lõppmängud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ndmebaasini, kus on juba sees täp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seisuhinnang.</a:t>
            </a:r>
            <a:endParaRPr b="1" lang="en-US" sz="1800" spc="-1" strike="noStrike">
              <a:solidFill>
                <a:srgbClr val="000000"/>
              </a:solidFill>
              <a:latin typeface="Bitstream Vera Sans"/>
            </a:endParaRPr>
          </a:p>
          <a:p>
            <a:pPr lvl="1" marL="509760" indent="0">
              <a:lnSpc>
                <a:spcPct val="7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7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Otsing seega mõlemast suuna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3" name=""/>
          <p:cNvGrpSpPr/>
          <p:nvPr/>
        </p:nvGrpSpPr>
        <p:grpSpPr>
          <a:xfrm>
            <a:off x="914400" y="299520"/>
            <a:ext cx="7772400" cy="311400"/>
            <a:chOff x="914400" y="299520"/>
            <a:chExt cx="7772400" cy="311400"/>
          </a:xfrm>
        </p:grpSpPr>
        <p:sp>
          <p:nvSpPr>
            <p:cNvPr id="3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6" name="" descr=""/>
          <p:cNvPicPr/>
          <p:nvPr/>
        </p:nvPicPr>
        <p:blipFill>
          <a:blip r:embed="rId1"/>
          <a:stretch/>
        </p:blipFill>
        <p:spPr>
          <a:xfrm>
            <a:off x="6629400" y="3200400"/>
            <a:ext cx="2286000" cy="3143160"/>
          </a:xfrm>
          <a:prstGeom prst="rect">
            <a:avLst/>
          </a:prstGeom>
          <a:ln w="0">
            <a:noFill/>
          </a:ln>
        </p:spPr>
      </p:pic>
      <p:sp>
        <p:nvSpPr>
          <p:cNvPr id="387" name=""/>
          <p:cNvSpPr/>
          <p:nvPr/>
        </p:nvSpPr>
        <p:spPr>
          <a:xfrm>
            <a:off x="4419720" y="3352680"/>
            <a:ext cx="2057400" cy="4572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Praegune seis mängudega</a:t>
            </a:r>
            <a:br>
              <a:rPr sz="1600"/>
            </a:br>
            <a:endParaRPr b="1" lang="en-US" sz="2400" spc="-1" strike="noStrike">
              <a:solidFill>
                <a:srgbClr val="000099"/>
              </a:solidFill>
              <a:latin typeface="Bitstream Vera Sans"/>
            </a:endParaRPr>
          </a:p>
        </p:txBody>
      </p:sp>
      <p:sp>
        <p:nvSpPr>
          <p:cNvPr id="389" name="PlaceHolder 2"/>
          <p:cNvSpPr>
            <a:spLocks noGrp="1"/>
          </p:cNvSpPr>
          <p:nvPr>
            <p:ph/>
          </p:nvPr>
        </p:nvSpPr>
        <p:spPr>
          <a:xfrm>
            <a:off x="838080" y="762120"/>
            <a:ext cx="7848720" cy="7084800"/>
          </a:xfrm>
          <a:prstGeom prst="rect">
            <a:avLst/>
          </a:prstGeom>
          <a:noFill/>
          <a:ln w="0">
            <a:noFill/>
          </a:ln>
        </p:spPr>
        <p:txBody>
          <a:bodyPr lIns="92160" rIns="92160" tIns="46080" bIns="46080" anchor="t">
            <a:normAutofit/>
          </a:bodyPr>
          <a:p>
            <a:pPr marL="228600" indent="-228600">
              <a:lnSpc>
                <a:spcPts val="216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Lahendatud: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eli nuppu ritta, Qubic, </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ine Man’s Morris, Go-Mok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wari</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Tugevalt üle inimmängijate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abe (8x8),</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Renju (viis nuppu ritta),</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thello (Reversi), Scrabble, Backgammon</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Maailmameistri tasemel :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le, </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hvusvaheline kabe (10x10)</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Tippmängija tasemel:</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o (9x9), Hiina male, Bridzh, Pokker</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Amatööri tasemel :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Go (19x19)</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9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20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0" name=""/>
          <p:cNvGrpSpPr/>
          <p:nvPr/>
        </p:nvGrpSpPr>
        <p:grpSpPr>
          <a:xfrm>
            <a:off x="914400" y="299520"/>
            <a:ext cx="7772400" cy="311400"/>
            <a:chOff x="914400" y="299520"/>
            <a:chExt cx="7772400" cy="311400"/>
          </a:xfrm>
        </p:grpSpPr>
        <p:sp>
          <p:nvSpPr>
            <p:cNvPr id="3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93" name="" descr=""/>
          <p:cNvPicPr/>
          <p:nvPr/>
        </p:nvPicPr>
        <p:blipFill>
          <a:blip r:embed="rId1"/>
          <a:stretch/>
        </p:blipFill>
        <p:spPr>
          <a:xfrm>
            <a:off x="5257800" y="685800"/>
            <a:ext cx="2895480" cy="1909800"/>
          </a:xfrm>
          <a:prstGeom prst="rect">
            <a:avLst/>
          </a:prstGeom>
          <a:ln w="0">
            <a:noFill/>
          </a:ln>
        </p:spPr>
      </p:pic>
      <p:pic>
        <p:nvPicPr>
          <p:cNvPr id="394" name="" descr=""/>
          <p:cNvPicPr/>
          <p:nvPr/>
        </p:nvPicPr>
        <p:blipFill>
          <a:blip r:embed="rId2"/>
          <a:stretch/>
        </p:blipFill>
        <p:spPr>
          <a:xfrm>
            <a:off x="6248520" y="1371600"/>
            <a:ext cx="2324160" cy="2390760"/>
          </a:xfrm>
          <a:prstGeom prst="rect">
            <a:avLst/>
          </a:prstGeom>
          <a:ln w="0">
            <a:noFill/>
          </a:ln>
        </p:spPr>
      </p:pic>
      <p:grpSp>
        <p:nvGrpSpPr>
          <p:cNvPr id="395" name=""/>
          <p:cNvGrpSpPr/>
          <p:nvPr/>
        </p:nvGrpSpPr>
        <p:grpSpPr>
          <a:xfrm>
            <a:off x="6553080" y="2971800"/>
            <a:ext cx="2127240" cy="2133720"/>
            <a:chOff x="6553080" y="2971800"/>
            <a:chExt cx="2127240" cy="2133720"/>
          </a:xfrm>
        </p:grpSpPr>
        <p:sp>
          <p:nvSpPr>
            <p:cNvPr id="396" name=""/>
            <p:cNvSpPr/>
            <p:nvPr/>
          </p:nvSpPr>
          <p:spPr>
            <a:xfrm>
              <a:off x="6553080" y="2971800"/>
              <a:ext cx="2127240" cy="2133720"/>
            </a:xfrm>
            <a:custGeom>
              <a:avLst/>
              <a:gdLst>
                <a:gd name="textAreaLeft" fmla="*/ 360 w 2127240"/>
                <a:gd name="textAreaRight" fmla="*/ 2126880 w 2127240"/>
                <a:gd name="textAreaTop" fmla="*/ 360 h 2133720"/>
                <a:gd name="textAreaBottom" fmla="*/ 2133360 h 2133720"/>
              </a:gdLst>
              <a:ahLst/>
              <a:rect l="textAreaLeft" t="textAreaTop" r="textAreaRight" b="textAreaBottom"/>
              <a:pathLst>
                <a:path w="21600" h="21666">
                  <a:moveTo>
                    <a:pt x="16" y="0"/>
                  </a:moveTo>
                  <a:arcTo wR="16" hR="16" stAng="16200000" swAng="-5400000"/>
                  <a:lnTo>
                    <a:pt x="0" y="21650"/>
                  </a:lnTo>
                  <a:arcTo wR="16" hR="16" stAng="10800000" swAng="-5400000"/>
                  <a:lnTo>
                    <a:pt x="21584" y="21666"/>
                  </a:lnTo>
                  <a:arcTo wR="16" hR="16" stAng="5400000" swAng="-5400000"/>
                  <a:lnTo>
                    <a:pt x="21600" y="16"/>
                  </a:lnTo>
                  <a:arcTo wR="16" hR="16"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397" name="" descr=""/>
            <p:cNvPicPr/>
            <p:nvPr/>
          </p:nvPicPr>
          <p:blipFill>
            <a:blip r:embed="rId3"/>
            <a:stretch/>
          </p:blipFill>
          <p:spPr>
            <a:xfrm>
              <a:off x="6553080" y="2971800"/>
              <a:ext cx="2127240" cy="2133720"/>
            </a:xfrm>
            <a:prstGeom prst="rect">
              <a:avLst/>
            </a:prstGeom>
            <a:ln w="0">
              <a:noFill/>
            </a:ln>
          </p:spPr>
        </p:pic>
      </p:grpSp>
      <p:pic>
        <p:nvPicPr>
          <p:cNvPr id="398" name="" descr=""/>
          <p:cNvPicPr/>
          <p:nvPr/>
        </p:nvPicPr>
        <p:blipFill>
          <a:blip r:embed="rId4"/>
          <a:stretch/>
        </p:blipFill>
        <p:spPr>
          <a:xfrm>
            <a:off x="6819840" y="4295880"/>
            <a:ext cx="2324160" cy="22572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arvutatavusest</a:t>
            </a:r>
            <a:br>
              <a:rPr sz="1600"/>
            </a:br>
            <a:endParaRPr b="1" lang="en-US" sz="2400" spc="-1" strike="noStrike">
              <a:solidFill>
                <a:srgbClr val="000099"/>
              </a:solidFill>
              <a:latin typeface="Bitstream Vera Sans"/>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enutame, et paljude ülesannete jaoks ei saa olla lahendavat algoritmi. See kehtib nii:</a:t>
            </a: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 jaoks</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jaoks</a:t>
            </a:r>
            <a:endParaRPr b="0"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ga:</a:t>
            </a: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ne “saab lahendada” mistahes ülesande, kuna ta teeb vahel vig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 saab ka “lahendada” mistahes ülesande, kui programmis kasutada juhuslike arvude generaatorit ja panna programm vahel vigu tegema.</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15" name=""/>
          <p:cNvGrpSpPr/>
          <p:nvPr/>
        </p:nvGrpSpPr>
        <p:grpSpPr>
          <a:xfrm>
            <a:off x="914400" y="299520"/>
            <a:ext cx="7772400" cy="311400"/>
            <a:chOff x="914400" y="299520"/>
            <a:chExt cx="7772400" cy="311400"/>
          </a:xfrm>
        </p:grpSpPr>
        <p:sp>
          <p:nvSpPr>
            <p:cNvPr id="1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ehisintellekti filosoofia</a:t>
            </a:r>
            <a:br>
              <a:rPr sz="1600"/>
            </a:br>
            <a:endParaRPr b="1" lang="en-US" sz="2400" spc="-1" strike="noStrike">
              <a:solidFill>
                <a:srgbClr val="000099"/>
              </a:solidFill>
              <a:latin typeface="Bitstream Vera Sans"/>
            </a:endParaRPr>
          </a:p>
        </p:txBody>
      </p:sp>
      <p:sp>
        <p:nvSpPr>
          <p:cNvPr id="119" name="PlaceHolder 2"/>
          <p:cNvSpPr>
            <a:spLocks noGrp="1"/>
          </p:cNvSpPr>
          <p:nvPr>
            <p:ph/>
          </p:nvPr>
        </p:nvSpPr>
        <p:spPr>
          <a:xfrm>
            <a:off x="838080" y="761760"/>
            <a:ext cx="7848720" cy="558612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hte sor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dised küsimused (puhas filosofeerimine):</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on võimalik teha mõistuslikku masinat?</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asi on mõist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asi on teadv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jne</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onkreetsed küsimused (rakenduslik filosofeerimine):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das inimene teise inimese öeldud lausest aru saab?</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on tähenduse mehhanismid?</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das inimene kasutab oma teadmisi igapäevases elus hakkamasaamisek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mõtlemismehhanismid on kollektiivsed või pigem ühe algoritmi poolt läbiviidavad?</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0" name=""/>
          <p:cNvGrpSpPr/>
          <p:nvPr/>
        </p:nvGrpSpPr>
        <p:grpSpPr>
          <a:xfrm>
            <a:off x="914400" y="299520"/>
            <a:ext cx="7772400" cy="311400"/>
            <a:chOff x="914400" y="299520"/>
            <a:chExt cx="7772400" cy="31140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üldküsimused ja Turingi test</a:t>
            </a:r>
            <a:br>
              <a:rPr sz="1600"/>
            </a:b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uringi test: Turingi filosoofiline idee/ettepanek 30-dat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5" name=""/>
          <p:cNvGrpSpPr/>
          <p:nvPr/>
        </p:nvGrpSpPr>
        <p:grpSpPr>
          <a:xfrm>
            <a:off x="914400" y="299520"/>
            <a:ext cx="7772400" cy="311400"/>
            <a:chOff x="914400" y="299520"/>
            <a:chExt cx="7772400" cy="311400"/>
          </a:xfrm>
        </p:grpSpPr>
        <p:sp>
          <p:nvSpPr>
            <p:cNvPr id="1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8" name="" descr=""/>
          <p:cNvPicPr/>
          <p:nvPr/>
        </p:nvPicPr>
        <p:blipFill>
          <a:blip r:embed="rId1"/>
          <a:stretch/>
        </p:blipFill>
        <p:spPr>
          <a:xfrm>
            <a:off x="685800" y="2438280"/>
            <a:ext cx="1812960" cy="1498680"/>
          </a:xfrm>
          <a:prstGeom prst="rect">
            <a:avLst/>
          </a:prstGeom>
          <a:ln w="0">
            <a:noFill/>
          </a:ln>
        </p:spPr>
      </p:pic>
      <p:sp>
        <p:nvSpPr>
          <p:cNvPr id="129" name=""/>
          <p:cNvSpPr/>
          <p:nvPr/>
        </p:nvSpPr>
        <p:spPr>
          <a:xfrm>
            <a:off x="4648320" y="1219320"/>
            <a:ext cx="1440" cy="5105160"/>
          </a:xfrm>
          <a:prstGeom prst="line">
            <a:avLst/>
          </a:prstGeom>
          <a:ln w="25560">
            <a:solidFill>
              <a:srgbClr val="0033cc"/>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flipV="1">
            <a:off x="2743200" y="1976040"/>
            <a:ext cx="609480" cy="46692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31" name="" descr=""/>
          <p:cNvPicPr/>
          <p:nvPr/>
        </p:nvPicPr>
        <p:blipFill>
          <a:blip r:embed="rId2"/>
          <a:stretch/>
        </p:blipFill>
        <p:spPr>
          <a:xfrm>
            <a:off x="3733920" y="1371600"/>
            <a:ext cx="772920" cy="546120"/>
          </a:xfrm>
          <a:prstGeom prst="rect">
            <a:avLst/>
          </a:prstGeom>
          <a:ln w="0">
            <a:noFill/>
          </a:ln>
        </p:spPr>
      </p:pic>
      <p:pic>
        <p:nvPicPr>
          <p:cNvPr id="132" name="" descr=""/>
          <p:cNvPicPr/>
          <p:nvPr/>
        </p:nvPicPr>
        <p:blipFill>
          <a:blip r:embed="rId3"/>
          <a:stretch/>
        </p:blipFill>
        <p:spPr>
          <a:xfrm>
            <a:off x="3657600" y="2514600"/>
            <a:ext cx="773280" cy="546120"/>
          </a:xfrm>
          <a:prstGeom prst="rect">
            <a:avLst/>
          </a:prstGeom>
          <a:ln w="0">
            <a:noFill/>
          </a:ln>
        </p:spPr>
      </p:pic>
      <p:pic>
        <p:nvPicPr>
          <p:cNvPr id="133" name="" descr=""/>
          <p:cNvPicPr/>
          <p:nvPr/>
        </p:nvPicPr>
        <p:blipFill>
          <a:blip r:embed="rId4"/>
          <a:stretch/>
        </p:blipFill>
        <p:spPr>
          <a:xfrm>
            <a:off x="3657600" y="3809880"/>
            <a:ext cx="773280" cy="546120"/>
          </a:xfrm>
          <a:prstGeom prst="rect">
            <a:avLst/>
          </a:prstGeom>
          <a:ln w="0">
            <a:noFill/>
          </a:ln>
        </p:spPr>
      </p:pic>
      <p:pic>
        <p:nvPicPr>
          <p:cNvPr id="134" name="" descr=""/>
          <p:cNvPicPr/>
          <p:nvPr/>
        </p:nvPicPr>
        <p:blipFill>
          <a:blip r:embed="rId5"/>
          <a:stretch/>
        </p:blipFill>
        <p:spPr>
          <a:xfrm>
            <a:off x="3657600" y="5257800"/>
            <a:ext cx="773280" cy="546120"/>
          </a:xfrm>
          <a:prstGeom prst="rect">
            <a:avLst/>
          </a:prstGeom>
          <a:ln w="0">
            <a:noFill/>
          </a:ln>
        </p:spPr>
      </p:pic>
      <p:pic>
        <p:nvPicPr>
          <p:cNvPr id="135" name="" descr=""/>
          <p:cNvPicPr/>
          <p:nvPr/>
        </p:nvPicPr>
        <p:blipFill>
          <a:blip r:embed="rId6"/>
          <a:stretch/>
        </p:blipFill>
        <p:spPr>
          <a:xfrm>
            <a:off x="5562720" y="1295280"/>
            <a:ext cx="385560" cy="676440"/>
          </a:xfrm>
          <a:prstGeom prst="rect">
            <a:avLst/>
          </a:prstGeom>
          <a:ln w="0">
            <a:noFill/>
          </a:ln>
        </p:spPr>
      </p:pic>
      <p:pic>
        <p:nvPicPr>
          <p:cNvPr id="136" name="" descr=""/>
          <p:cNvPicPr/>
          <p:nvPr/>
        </p:nvPicPr>
        <p:blipFill>
          <a:blip r:embed="rId7"/>
          <a:stretch/>
        </p:blipFill>
        <p:spPr>
          <a:xfrm>
            <a:off x="5562720" y="3733920"/>
            <a:ext cx="385560" cy="676080"/>
          </a:xfrm>
          <a:prstGeom prst="rect">
            <a:avLst/>
          </a:prstGeom>
          <a:ln w="0">
            <a:noFill/>
          </a:ln>
        </p:spPr>
      </p:pic>
      <p:pic>
        <p:nvPicPr>
          <p:cNvPr id="137" name="" descr=""/>
          <p:cNvPicPr/>
          <p:nvPr/>
        </p:nvPicPr>
        <p:blipFill>
          <a:blip r:embed="rId8"/>
          <a:stretch/>
        </p:blipFill>
        <p:spPr>
          <a:xfrm>
            <a:off x="5181480" y="2286000"/>
            <a:ext cx="1219320" cy="1127160"/>
          </a:xfrm>
          <a:prstGeom prst="rect">
            <a:avLst/>
          </a:prstGeom>
          <a:ln w="0">
            <a:noFill/>
          </a:ln>
        </p:spPr>
      </p:pic>
      <p:pic>
        <p:nvPicPr>
          <p:cNvPr id="138" name="" descr=""/>
          <p:cNvPicPr/>
          <p:nvPr/>
        </p:nvPicPr>
        <p:blipFill>
          <a:blip r:embed="rId9"/>
          <a:stretch/>
        </p:blipFill>
        <p:spPr>
          <a:xfrm>
            <a:off x="5105520" y="4952880"/>
            <a:ext cx="1218960" cy="1127160"/>
          </a:xfrm>
          <a:prstGeom prst="rect">
            <a:avLst/>
          </a:prstGeom>
          <a:ln w="0">
            <a:noFill/>
          </a:ln>
        </p:spPr>
      </p:pic>
      <p:sp>
        <p:nvSpPr>
          <p:cNvPr id="139" name=""/>
          <p:cNvSpPr/>
          <p:nvPr/>
        </p:nvSpPr>
        <p:spPr>
          <a:xfrm flipV="1">
            <a:off x="2743200" y="2890800"/>
            <a:ext cx="762120" cy="23832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2743200" y="3733920"/>
            <a:ext cx="838080" cy="38088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a:off x="2743200" y="4267080"/>
            <a:ext cx="914400" cy="106704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a:off x="4495680" y="1600200"/>
            <a:ext cx="106704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4419720" y="2819520"/>
            <a:ext cx="76176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4419720" y="4191120"/>
            <a:ext cx="121896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4419720" y="5562720"/>
            <a:ext cx="68580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576000" y="4079880"/>
            <a:ext cx="213228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õistata, kas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hati-ekraan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aga on inimen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õi programm?</a:t>
            </a:r>
            <a:endParaRPr b="0" lang="en-US" sz="2400" spc="-1" strike="noStrike">
              <a:solidFill>
                <a:srgbClr val="000000"/>
              </a:solidFill>
              <a:latin typeface="Times New Roman"/>
            </a:endParaRPr>
          </a:p>
        </p:txBody>
      </p:sp>
      <p:sp>
        <p:nvSpPr>
          <p:cNvPr id="147" name=""/>
          <p:cNvSpPr/>
          <p:nvPr/>
        </p:nvSpPr>
        <p:spPr>
          <a:xfrm>
            <a:off x="6842520" y="1295280"/>
            <a:ext cx="1964520" cy="4849560"/>
          </a:xfrm>
          <a:custGeom>
            <a:avLst/>
            <a:gdLst>
              <a:gd name="textAreaLeft" fmla="*/ 360 w 1964520"/>
              <a:gd name="textAreaRight" fmla="*/ 1964160 w 1964520"/>
              <a:gd name="textAreaTop" fmla="*/ 360 h 4849560"/>
              <a:gd name="textAreaBottom" fmla="*/ 4849200 h 4849560"/>
            </a:gdLst>
            <a:ahLst/>
            <a:rect l="textAreaLeft" t="textAreaTop" r="textAreaRight" b="textAreaBottom"/>
            <a:pathLst>
              <a:path w="21600" h="53315">
                <a:moveTo>
                  <a:pt x="17" y="0"/>
                </a:moveTo>
                <a:arcTo wR="17" hR="17" stAng="16200000" swAng="-5400000"/>
                <a:lnTo>
                  <a:pt x="0" y="53298"/>
                </a:lnTo>
                <a:arcTo wR="17" hR="17" stAng="10800000" swAng="-5400000"/>
                <a:lnTo>
                  <a:pt x="21583" y="5331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urin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ui katsetajad</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ei suuda ä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ata (s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ära-arvamis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sagedus on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0% ja 5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eksitakse), sii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on jutlev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asi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cc0000"/>
                </a:solidFill>
                <a:latin typeface="Times New Roman"/>
              </a:rPr>
              <a:t>pärisel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ntelligentn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ja praktika Turingi testi ümber</a:t>
            </a:r>
            <a:br>
              <a:rPr sz="1600"/>
            </a:b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2120"/>
            <a:ext cx="7848720" cy="62532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lju erinevaid vastuväiteid, et testi ärategemine ei tähenda veel “päris” intellekti.</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Ükski vastuväide ei ole ümberlükatav.</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kuses ei suuda praegu keegi teha programmi, mis suudaks Turingi testi edukalt läbi teha: sellest ollakse VÄGA KAUGE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raegu “edukalt” intellekti simuleerivad Turingi testi programmid on ka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ullumeelse simulaatorid:</a:t>
            </a:r>
            <a:endParaRPr b="0" lang="en-US" sz="1800" spc="-1" strike="noStrike">
              <a:solidFill>
                <a:srgbClr val="000000"/>
              </a:solidFill>
              <a:latin typeface="Bitstream Vera Sans"/>
            </a:endParaRPr>
          </a:p>
          <a:p>
            <a:pPr lvl="2" marL="795240" indent="-169920">
              <a:lnSpc>
                <a:spcPct val="88000"/>
              </a:lnSpc>
              <a:spcBef>
                <a:spcPts val="451"/>
              </a:spcBef>
              <a:buClr>
                <a:srgbClr val="cc0000"/>
              </a:buClr>
              <a:buSzPct val="6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tatoonik: ei ütle üldse mitte midagi</a:t>
            </a:r>
            <a:endParaRPr b="0" lang="en-US" sz="1800" spc="-1" strike="noStrike">
              <a:solidFill>
                <a:srgbClr val="000000"/>
              </a:solidFill>
              <a:latin typeface="Bitstream Vera Sans"/>
            </a:endParaRPr>
          </a:p>
          <a:p>
            <a:pPr lvl="2" marL="795240" indent="-169920">
              <a:lnSpc>
                <a:spcPct val="88000"/>
              </a:lnSpc>
              <a:spcBef>
                <a:spcPts val="451"/>
              </a:spcBef>
              <a:buClr>
                <a:srgbClr val="cc0000"/>
              </a:buClr>
              <a:buSzPct val="6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anoik: räägib kogu aeg samasugust hirmujuttu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oolsegase psühhoanalüütiku simulaatorid (Eliz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ms simulaatorid, mis hoiavad keskustelu VÄGA KITSASTES raamides ja sisuliselt ei saa üldse aru talle öeldud lausetest.</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eidi põhjalikuma vestlusega saab alati aru, et simuleerival programmil pole üldist arusaama isegi igapäevasest elust ja asjadest ning ta ei oska probleeme lahendad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299520"/>
            <a:ext cx="7772400" cy="311400"/>
            <a:chOff x="914400" y="299520"/>
            <a:chExt cx="7772400" cy="31140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